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BA9-5D48-49E6-8BF1-1C96CAD8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11E-6ED4-4720-80AB-BC77C54E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9CB-731A-4CC8-8F28-57769E12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6DD-C5D3-4B41-A08A-805D3B4A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976-B8AF-4F6A-8641-3CEC9158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CAC-8694-420D-9B27-1559028D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CFC-1002-460C-BD9C-79CC516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140-D495-493F-937B-9A811743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4BB-CA6D-4869-B36C-22AAC3AD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30D-868C-436F-B211-F5FC2872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12A-1865-4D7A-BE85-458E5D4D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167-147D-4D10-A6B2-290A1E05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07C-B10C-4912-832B-B2C4D896A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улятор для моделирования протоколов в сенсор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итин Павел, 2007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адемия Современного Программ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– Линский Евгений Михайл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хитектура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25196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3780000" y="1773360"/>
            <a:ext cx="180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2997360"/>
            <a:ext cx="180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4149720"/>
            <a:ext cx="180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860640"/>
            <a:ext cx="259236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448000" cy="201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4716360" y="37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1636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45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2376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2997360"/>
            <a:ext cx="64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85080" y="2997360"/>
            <a:ext cx="64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2997360"/>
            <a:ext cx="79236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51672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38036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17236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579640" y="220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3860640"/>
            <a:ext cx="647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3860640"/>
            <a:ext cx="15843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5373720"/>
            <a:ext cx="15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4581360"/>
            <a:ext cx="1584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803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036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0364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5300640"/>
            <a:ext cx="1800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xt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16360" y="494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579640" y="45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32000" y="5661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28640"/>
            <a:ext cx="215640" cy="792360"/>
          </a:xfrm>
          <a:custGeom>
            <a:avLst/>
            <a:gdLst>
              <a:gd name="textAreaLeft" fmla="*/ 0 w 215640"/>
              <a:gd name="textAreaRight" fmla="*/ 7776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2571"/>
                </a:lnTo>
                <a:cubicBezTo>
                  <a:pt x="10800" y="13471"/>
                  <a:pt x="16200" y="14371"/>
                  <a:pt x="21600" y="14371"/>
                </a:cubicBezTo>
                <a:cubicBezTo>
                  <a:pt x="16200" y="14371"/>
                  <a:pt x="10800" y="15271"/>
                  <a:pt x="10800" y="1617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492280"/>
            <a:ext cx="215640" cy="1150920"/>
          </a:xfrm>
          <a:custGeom>
            <a:avLst/>
            <a:gdLst>
              <a:gd name="textAreaLeft" fmla="*/ 0 w 215640"/>
              <a:gd name="textAreaRight" fmla="*/ 7776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4646"/>
                </a:lnTo>
                <a:cubicBezTo>
                  <a:pt x="10800" y="15546"/>
                  <a:pt x="16200" y="16446"/>
                  <a:pt x="21600" y="16446"/>
                </a:cubicBezTo>
                <a:cubicBezTo>
                  <a:pt x="16200" y="16446"/>
                  <a:pt x="10800" y="17346"/>
                  <a:pt x="10800" y="1824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ром системы явля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er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торый диспетчеризует сообщ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объект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Objec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ная реализ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Objec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м. интерфей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tObjec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расширением этого класса, в который добавлены методы IMovingObject, мощность передатчика, порог приёма и стандартная линейная топология (топология - то, как соединены модули внутри него, см. Tutorial_Protocol). Основная функциональ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Objec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яет возможность управлять наполнением его модулями и гейтами (для приёма сообщений). Гейт – некий «провод», соединяющий два модуля, см. Далее. Параметрами методов для работы с гейтами является «Class&lt;? extends IPacket&gt; msgClass». Это значит, что диспетчер дифференцирует сообщ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инадлежности объекта его данны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метод Object getData()) к тому или иному классу msgClass. Видно, что этот класс должен реализовывать интерфейс IPacket. Этот интерфейс – то, что можно пропускать через гейты и, соответственно, передавать между модулями внутри одног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Objec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дробнее – в Tutorial_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рассмотрим жизненный цикл при передаче сообщ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ча сооб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Filter (Radio, Sensing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3933720"/>
            <a:ext cx="259056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43640" y="4294080"/>
            <a:ext cx="180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5229360"/>
            <a:ext cx="180036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6000" y="515772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4654440"/>
            <a:ext cx="14436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30728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4221000"/>
            <a:ext cx="14436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386244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792000" cy="620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96360" y="2997360"/>
            <a:ext cx="647640" cy="583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883640" y="386244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30560" y="3573360"/>
            <a:ext cx="18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954560" y="3573360"/>
            <a:ext cx="18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3640" y="4221000"/>
            <a:ext cx="14436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0920" y="40784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54920" y="40784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8920" y="4437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0560" y="443700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83280" y="451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9440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2276640"/>
            <a:ext cx="122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162864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2276640"/>
            <a:ext cx="122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32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6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3" idx="1"/>
            <a:endCxn id="98" idx="1"/>
          </p:cNvCxnSpPr>
          <p:nvPr/>
        </p:nvCxnSpPr>
        <p:spPr>
          <a:xfrm flipH="1" rot="10800000">
            <a:off x="5937840" y="1843920"/>
            <a:ext cx="73800" cy="2666160"/>
          </a:xfrm>
          <a:prstGeom prst="bentConnector3">
            <a:avLst>
              <a:gd name="adj1" fmla="val -3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69494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580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5080" y="306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872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45080" y="31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9080" y="400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814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анной схеме изображена передача сообщения по шагам (подписаны цифрам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2 мота1 отсылает сообщ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Pack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ипа «квадрат в очк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1 мота1 формиру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ssa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лученным «квадратом» в качестве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тчер получает сообщение и отсылает его моту2 через филь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ьтр определяет, что сообщение является «квадратом» и производит соответствующие действия, затем пересылает адрес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2 принимает сообщение на соответствующий классу «квадрат» гейт. Предположим, что к нему присоединён модуль1. Он обрабатывает сообщение и передаёт модулю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3:54:37Z</dcterms:created>
  <dc:creator>Morj</dc:creator>
  <dc:description/>
  <dc:language>en-US</dc:language>
  <cp:lastModifiedBy>Morj</cp:lastModifiedBy>
  <dcterms:modified xsi:type="dcterms:W3CDTF">2008-05-14T09:22:33Z</dcterms:modified>
  <cp:revision>67</cp:revision>
  <dc:subject/>
  <dc:title>Симулятор для моделирования протоколов в сенсорной сети</dc:title>
</cp:coreProperties>
</file>