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3648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4932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3648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4932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224-3BAF-497E-B0E7-3A36902C95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E77-66BC-4C7F-AAF7-B361F9A4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76C-468B-41E6-B111-3FD69AD7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60EF-6E8C-4F5E-860B-82383EB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742-10E0-40F8-939D-20A8D34F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281800" cy="11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941-98C2-4D26-A6C2-4939D3EF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342D-09EB-4E10-9C46-922FAD90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81F-D96A-417F-9E0A-AEBCD891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FD0-B166-448C-AAD2-D1436FBA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496-6B63-48E7-9DE7-9D4732A0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089-924F-42A3-895A-C7C4414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648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49320" y="141264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43648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49320" y="2164680"/>
            <a:ext cx="201168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634-9888-4E49-A911-7C0262796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62481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3640" y="2852640"/>
            <a:ext cx="8281800" cy="11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25840" y="216468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25840" y="1412640"/>
            <a:ext cx="304884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2164680"/>
            <a:ext cx="6248160" cy="6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122040"/>
            <a:ext cx="8820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2e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8000" y="6524640"/>
            <a:ext cx="8280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17080" y="6524640"/>
            <a:ext cx="826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DFE-667F-4174-9D24-C00A109704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24640"/>
            <a:ext cx="36734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orgiy Korne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281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e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F13E-7E61-4957-9CB5-3ABEA68139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443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0200" y="285228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ec00"/>
                </a:solidFill>
                <a:latin typeface="Arial"/>
              </a:rPr>
              <a:t>Javadoc</a:t>
            </a:r>
            <a:endParaRPr b="1" lang="en-US" sz="4800" spc="-1" strike="noStrike">
              <a:solidFill>
                <a:srgbClr val="f2e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30080" y="1989000"/>
            <a:ext cx="768384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Java Advanc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21:00:12Z</dcterms:created>
  <dc:creator>Geo</dc:creator>
  <dc:description/>
  <dc:language>en-US</dc:language>
  <cp:lastModifiedBy>shurik</cp:lastModifiedBy>
  <dcterms:modified xsi:type="dcterms:W3CDTF">2006-03-29T23:05:45Z</dcterms:modified>
  <cp:revision>482</cp:revision>
  <dc:subject/>
  <dc:title>Slide 1</dc:title>
</cp:coreProperties>
</file>