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F0D6B-3BA2-4F1C-B7FF-35D5877DD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736080"/>
            <a:ext cx="91440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33380-1E0F-44BF-961C-0AED0D400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76464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73608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73608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AE07-A8E8-4F77-9E08-856231AE9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294408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764640"/>
            <a:ext cx="294408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764640"/>
            <a:ext cx="294408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736080"/>
            <a:ext cx="294408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736080"/>
            <a:ext cx="294408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736080"/>
            <a:ext cx="294408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0E68-D779-47D4-B25C-1A7D1B3E7C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56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A0BCE-B2B7-4FD2-873C-1B182B3049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68D4E-7381-4BFF-8DEE-37D596C9F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4622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764640"/>
            <a:ext cx="44622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FE1C8-B593-4395-A700-65EFC0E33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DA91-34BD-46C0-BC52-0E5A706A8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7908-72CA-44E1-9C49-611B2FD01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764640"/>
            <a:ext cx="44622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73608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AE12A-2AD7-4F87-95A6-4E57056C6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4622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76464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73608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74AB9-14D4-4E7C-B1AB-0EA894001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76464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736080"/>
            <a:ext cx="91440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9807-33F7-43B6-93A9-9148506AC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4640"/>
            <a:ext cx="9144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453360"/>
            <a:ext cx="6019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.А. Новиков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Влияние на процесс разработк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16640"/>
            <a:ext cx="25909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85D8-42B5-4DC1-AD85-D86DD1D92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лиз и проектирование 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иков Ф.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вышение продуктивност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счет УЛУЧШЕНИЯ процесса (х%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ьный процесс уменьшает продуктивн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t known pract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иная с СММ 3 – управляемый процесс = измеримый процес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счет ОРГАНИЗАЦИИ команды (3х%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ерархия уменьшает продуктивн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намическое переназначение роле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правление по компетент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C9F7D-52CF-41BC-9DC1-9D159705AB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вышение продуктивност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счет ТЕХНОЛОГИИ программирования (10х%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кращение количества внеплановых изменений ко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ибк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ектир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еличение объема повторно использованного ко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ецифицированн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мпоненты в репозитор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97FA-4FC9-4059-8D9C-67250FC3E8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клы повышения продуктив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752400"/>
            <a:ext cx="8515080" cy="5889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59280" y="5373720"/>
            <a:ext cx="2702160" cy="1224000"/>
          </a:xfrm>
          <a:prstGeom prst="wedgeRoundRectCallout">
            <a:avLst>
              <a:gd name="adj1" fmla="val 1175"/>
              <a:gd name="adj2" fmla="val -176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шибки проект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60640"/>
            <a:ext cx="2702160" cy="1223640"/>
          </a:xfrm>
          <a:prstGeom prst="wedgeRoundRectCallout">
            <a:avLst>
              <a:gd name="adj1" fmla="val 11689"/>
              <a:gd name="adj2" fmla="val 12859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F472-3475-4340-A2A0-D4EA392FDD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.3. Влияние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пецифицированные компоненты для повторного использования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корость повторного использования возрастает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бъем увеличиваетс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гласованные спецификации для проектирования и реализации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число ошибок проектирования уменьшаетс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всех фазах и процессах используется один и тот же язык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затраты на обучение уменьшаются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CBBBD-4F62-4FCA-B84C-ED3D432EB9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комендации по внедрению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160280"/>
            <a:ext cx="91440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ция должна поставить ИЗМЕРИМУЮ цель внедр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ть и применя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лжны ВС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стники процесс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лжен использоваться корпоративный РЕПОЗИТОРИЙ образцов проектирования 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струмент, поддерживающи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 должен быть ЛЁГКИМ в использован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74468-C0D3-43CB-AE9E-47C0659C48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дарты очень полезны, но не универсальны – требуется подгон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 процесса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лучшего для всех типов организаций и проектов, но для каждой организации и каждого проекта  в отдельности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ь наилучший процес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нифицирует представления артефактов в циклах повышения продуктивности, тем и хорош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D40AD-5D7B-4A3D-85E1-B6523A8B0B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лек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07640" y="1412640"/>
            <a:ext cx="7419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нденции развития язык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роцесс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C68E8-2495-495D-AD4E-32726926E1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. Влияние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процесс разработк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.1. Процесс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.2. Повышение продуктив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.3. Влия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9BF1F-D9C5-42C4-A2EB-88AA6C43D9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1. Процесс разработк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9680" y="981000"/>
            <a:ext cx="8643960" cy="538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процесс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ядок проведения типового проек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уровне организаци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команд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отношения между людьми в процессе разработ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уровне проек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сциплина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технология программирования (в широком смысле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уровне работни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FE019-1ADB-48DF-932D-6A56022EE2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20240" y="0"/>
            <a:ext cx="8123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дель процесс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00288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з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s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процесса работы над проектом. Обычно каждая фаза характеризуется вехой, достижение которой знаменует завершение фаз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х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ilestone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омоментное идентифицируемое событие, сопровождающееся появлением и фиксацией некоторого артефакта, который называется результатом вехи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ни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worker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ение сотруднику набора функций в рамках конкретного проек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тефак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artifact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умент или иной материал, имеющий материальную форму и отчуждаемый от разработчи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estone oriente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-driven incremental software development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EF157-146B-4644-9E65-4B7B8C88CE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ндартные процесс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6920" y="1218960"/>
            <a:ext cx="8628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дарты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 9000 (200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MM (CMM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CE (ISO 1550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P = Rational Unified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SF = Microsoft Solutions Fra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A8CBE-A7BF-4813-ADF3-6CDE3A163E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ичный рецепт процесс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ять дюжину свежих программистов среднего размера и хорошего качест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щательно очистить, удаляя шелуху университетского образ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сировать при средней температуре в течение месяца испытательного сро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естить в толстостенный сосуд выбранной системы программир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авить менеджмента и теории по вкусу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ить в собственном соку при плотно закрытой крышке до готовности программного продукта, периодически выпуская релиз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AEA43-9EEB-45DE-9FAD-A2EDB07CE5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.2. Повышение продуктивност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088640"/>
            <a:ext cx="9144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ы ненадежн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исты неуправляе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ирование рискованн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дуктивность – производительность востребованного тру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линейная зависимость продуктивности от различных фактор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1D72-518B-4877-A7C0-ACD60A946F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дуктивность и люд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58920" y="1808280"/>
          <a:ext cx="658800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808280"/>
                    <a:ext cx="658800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633C-BBA7-4659-85D9-B45EDE1FF6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1T11:30:01Z</dcterms:created>
  <dc:creator>Novikov</dc:creator>
  <dc:description/>
  <dc:language>en-US</dc:language>
  <cp:lastModifiedBy>Fedor Novikov</cp:lastModifiedBy>
  <dcterms:modified xsi:type="dcterms:W3CDTF">2006-03-30T15:53:57Z</dcterms:modified>
  <cp:revision>24</cp:revision>
  <dc:subject/>
  <dc:title>OO Analysis &amp; Design with UML (advanced)</dc:title>
</cp:coreProperties>
</file>