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25B3-8B71-4E4A-84EE-6ECC19DF3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3284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E8F7-EC5A-4400-B66F-BEB5BE445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3284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3284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F206-6BA2-448C-841A-715A06FE8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83628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83628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3284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3284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3284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460C-FD76-4E95-9326-A79165275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173B-1B40-425E-8B6A-61E5E69972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2AE9-4ED5-4032-B25C-6D312CEBE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927F-0C9F-4F0D-AAE8-8755E47CF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7B7A-D1F2-4720-A3B1-F6CE15A70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9415-1166-439B-9BB4-2B3089391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3284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06AC-7903-4BA3-87FC-AE70D4005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3284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448A-6890-4E82-A1F6-F3F16F774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3284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C722-2D56-44BF-A6A1-E230A44D7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6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591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3993-60D2-4576-9343-19E173629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2000" y="2097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4764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гматик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делирования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простые идеи и нот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яется на ВСЕХ фазах (анализ, …, тестирован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ют ВСЕ (разработчики, заказчики, управленцы) одинако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ависит от остальных средст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меняется 1.1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ет использоваться отдельно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2D47-C29B-45A1-8FC1-888A410047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чем это нужно – вывод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диционные подходы достаточн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ный архитектор может с успехом использовать любой подхо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ирование использования позволяет неопытному архитектору совершать меньше грубых ошибок на ранних этапах проект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9BE0-D40E-4FC4-B1AD-3C3EDC55E2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2. Диаграммы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159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менты и нот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йствующие лиц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их идентифик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рианты использования и их идентифик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ношения элементов диаграмм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0F3F-B770-4621-9CBD-DAF7E35083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менты диаграмм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ющие лиц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анты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ч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Паке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и между действующими лицами и вариантами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я между действующими лица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я и зависимости между вариантами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429C-9C4F-43D4-9806-8C039F348A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31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0760" y="1241280"/>
            <a:ext cx="5467320" cy="5073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86760" y="358920"/>
            <a:ext cx="1643040" cy="891000"/>
          </a:xfrm>
          <a:prstGeom prst="wedgeRoundRectCallout">
            <a:avLst>
              <a:gd name="adj1" fmla="val -17842"/>
              <a:gd name="adj2" fmla="val 123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ницы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8800" y="728640"/>
            <a:ext cx="2928960" cy="496440"/>
          </a:xfrm>
          <a:prstGeom prst="wedgeRoundRectCallout">
            <a:avLst>
              <a:gd name="adj1" fmla="val 11398"/>
              <a:gd name="adj2" fmla="val 24521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ее лиц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29240" y="3143160"/>
            <a:ext cx="2500560" cy="891000"/>
          </a:xfrm>
          <a:prstGeom prst="wedgeRoundRectCallout">
            <a:avLst>
              <a:gd name="adj1" fmla="val -47972"/>
              <a:gd name="adj2" fmla="val -9078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иант исполь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14880" y="5229360"/>
            <a:ext cx="2500200" cy="496440"/>
          </a:xfrm>
          <a:prstGeom prst="wedgeRoundRectCallout">
            <a:avLst>
              <a:gd name="adj1" fmla="val -44231"/>
              <a:gd name="adj2" fmla="val -11282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ци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86120" y="3414600"/>
            <a:ext cx="2500560" cy="891000"/>
          </a:xfrm>
          <a:prstGeom prst="wedgeRoundRectCallout">
            <a:avLst>
              <a:gd name="adj1" fmla="val -34268"/>
              <a:gd name="adj2" fmla="val 8650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ассоц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4200" y="4343400"/>
            <a:ext cx="2286000" cy="1286280"/>
          </a:xfrm>
          <a:prstGeom prst="wedgeRoundRectCallout">
            <a:avLst>
              <a:gd name="adj1" fmla="val 55476"/>
              <a:gd name="adj2" fmla="val 6429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действующего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383B-2C64-402B-88BE-D315B1BDF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8068" t="5102" r="0" b="39952"/>
          <a:stretch/>
        </p:blipFill>
        <p:spPr>
          <a:xfrm>
            <a:off x="0" y="116064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14842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бобщение действующих л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79640" y="1628640"/>
            <a:ext cx="20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ариант использования с точкой расши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170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Условие расши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CF2B-2AB2-4C36-8B44-340F30DF1B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йствующие лиц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их идентифик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464840"/>
            <a:ext cx="84837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ющие лица находятся ВНЕ проектируемой систе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ющее лицо – это множество логически взаимосвязанных РОЛ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ющее лицо – это стереотипный КЛАС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овые случаи: категории пользователей, внешние программные и аппаратные средств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7260-E545-4E1A-A154-CAFAC28453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85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: действующие лица ИС О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455480"/>
            <a:ext cx="731520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еджер персона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ет с конкретными людь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еджер штатного распис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ет с абстрактными должностями и подразделения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1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B909-5FCA-4A8A-9C38-B13962591F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рианты использования и их идентифик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3120" y="1746360"/>
            <a:ext cx="8840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ариант использ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жество возможных последовательностей событий/действий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приводящих к значимому для действующего лица результа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ичные случаи: пункты Т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З смутное, его можно (и нужно!) попробовать переписать фразами субъект – предикат – объек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5810-0B80-4B94-A5CF-E897CBA4B3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: варианты использования ИС О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9360"/>
            <a:ext cx="91440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енеджер персонала выполняет действ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ем сотруд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сотруд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ольнение сотруд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енеджер штатного расписания выполняет действ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подразде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квидация подразде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вакансии (=должности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кращение долж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4B1B-75A7-4C4A-923D-539FBB3137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640" y="1209240"/>
            <a:ext cx="813744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4AE8-275B-4871-A886-2944BF31F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: варианты использования ИС О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" y="1434960"/>
            <a:ext cx="9147240" cy="398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9BDB-6EB4-4AAD-AF58-7A3085B99D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360" y="0"/>
            <a:ext cx="8396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ч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8640" y="836280"/>
            <a:ext cx="838224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З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– функциональные и НЕ функциональные треб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ировка требований (по приоритетам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2400" y="4137120"/>
            <a:ext cx="655632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5064-CD1C-42A9-AF9C-B3DAA14012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я элементов диаграмм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46360"/>
            <a:ext cx="815184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оциация между действующим лицом и вариантом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между действующими лиц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между вариантами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ь между вариантами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Зависимость между пакет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AB5F-F5C2-4375-A1A4-41318F8835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ссоциации между действующими лицами и вариантами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8229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4671-A179-424F-9B71-3FD261422F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 вариантов использования (1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3640" y="1125360"/>
            <a:ext cx="731340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6AE4-5B50-4CCF-9AA2-B81ECD5CE9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 вариантов использования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14480"/>
            <a:ext cx="914400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356F-50C9-48D2-AEF1-7CDA9C8451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 вариантов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343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8E3D-AF0F-4DB4-B58B-ADC5C9ED4D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исимости между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риантами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7528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78FC-5C52-4F42-8494-2E9F3B58DD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3. Реализация вариантов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34100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 от анализа и постановки задачи к решению (проектированию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овые сценарии и исключени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кстовые описания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stor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на псевдокод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взаимодействия (последовательности и коммуникации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7B89-BF52-4CD8-8BC9-A6F73A4C1E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6320" y="0"/>
            <a:ext cx="84376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овые опис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88640"/>
            <a:ext cx="91440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вольнение по собственному жел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трудник пишет заяв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ик подписывает заяв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есть неиспользованный отпуск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бухгалтерия рассчитывает компенсаци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хгалтерия рассчитывает выходное пособ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ный администратор удаляет учетную запис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еджер штатного расписания обновляет базу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D572-43F5-45AF-9EA5-BBF6F9773C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Моделирование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762200"/>
            <a:ext cx="91440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1. Значение моделиров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2. Диаграммы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3. Реализация варианто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A885-7AB1-4B40-BDB1-78ADDF0442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520" y="0"/>
            <a:ext cx="79804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ы на псевдокод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612440"/>
            <a:ext cx="4191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elfF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ть заявл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pecia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читать сотрудн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nclud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DeleteAcc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ить информацию в баз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0" y="1612440"/>
            <a:ext cx="45720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F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ть прика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pecia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читать сотрудн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clude DeleteAcc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ить информацию в баз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5498-DD2F-483B-9A42-B99D73E515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диаграммами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8534520" cy="61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153E-5733-4DBF-8D12-0466208194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 rot="16200000">
            <a:off x="-2742840" y="27432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овершенствован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реализ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81400" y="0"/>
            <a:ext cx="5497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6AA0-DAF3-4839-A838-0622249060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лизация диаграммам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ледовательности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1301760"/>
            <a:ext cx="7925040" cy="555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33BE-93FD-4634-AC20-C890809820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лизация диаграммами   коммуник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1308240"/>
            <a:ext cx="8076960" cy="55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A5A1-E510-4DFF-A4AF-486BCBCB3C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авнение способов реализации вариантов использования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кстовые опис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м понятно, привычно и удобн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но и неточно, пропуски и ошиб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трансляторы в варианты использования (!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на псевдокод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ое средство программис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актнее текстового опис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вязывают структуру реализ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иближает к объектной модели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ED5D-C93E-43A4-A4C0-432A99E8B4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авнение способов реализации вариантов использования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код эквивалентен блок-схемам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 точностью до параллелизма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глядно, но менее компактн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не приближают к объектной моде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взаимодейств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ая и непривычная нотац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объектного уровня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ывают ОДИН сценарий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жно МНОГО диаграм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о ведут к объектной моде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43C3-AA9B-4958-94CD-D21F68F9E3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использования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шаг модел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назначение – показать, что делает система во внешнем ми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обязательно соответствует структуре классов, модулей и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ая идентификация действующих лиц и вариантов использования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юч к успех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 реализации – дело вку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BA5E-E726-4258-8138-9E48A756B7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1. Значение моделирования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3125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чем это нужно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ходы к проектировани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имущества моделирования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6489-D6E8-4965-9FC4-96E5ACC7CE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чем это нужно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4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блок сх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состоян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конечные автома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класс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код в рамочк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диаграммы «сущность – связь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размещ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топология се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ак дале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использова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. . . 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1965-7274-4E54-BFB0-96064C4439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З: Отдел кадр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 «Отдел кадров» предназначена для ввода, хранения и обработки информации о сотрудниках и движении кад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ем, перевод и увольнение сотрудник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и ликвидация подразделе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вакансий и сокращение должност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31A9-EB7C-4307-A155-0099467AA3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ходы к проектировани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3120" y="1464840"/>
            <a:ext cx="81122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Top-down: система – подсистемы – модули …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соответствует команде, а не задач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Д: схема = таблицы + связ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ельный номер – атрибут сотрудн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O: словарь системы = класс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та и адекватность словаря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E686-503E-40B4-A667-3670344E5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достатки традиционных подход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шаг выполняется в терминах проектируемой систе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лько одна структура выбирается за основу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ое проектирование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ко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 данных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хра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но-ориентированный подход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межмодульных интерфей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B64E-D4EE-4BCF-9580-3304A30545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имущества моделирования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680" y="1371600"/>
            <a:ext cx="81914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ые утверж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ъекты, предикаты (и объект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бстрагирование от реализац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делает система (но не КАК это делается и не ЗАЧЕМ это делать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ларативно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не императивное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ление грани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не черный ящи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687F-ED2C-4385-855A-377EFF384E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12T17:57:42Z</dcterms:modified>
  <cp:revision>47</cp:revision>
  <dc:subject/>
  <dc:title>OO Analysis &amp; Design with UML (elementary)</dc:title>
</cp:coreProperties>
</file>