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23.png" ContentType="image/png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94FC6-FE17-4539-B8B6-BE1D0D675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607920"/>
            <a:ext cx="91440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0F656-39CE-4C07-80B6-98206A744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9228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60792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60792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B51C2-A482-49D7-903A-F3FF10103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9228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9228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60792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60792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60792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188B4-367E-4E6A-BD55-9F5A5C5E02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9228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D3ADE-EF22-4E8B-8BD4-6222F63BD0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BC2E4-F428-45CC-B590-342DF16E1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44622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92280"/>
            <a:ext cx="44622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DD025-E45C-434F-A35F-A03FB726D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5D4F4-62AC-4869-BC01-F34C35288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7916F-E17C-488F-BAD5-437834CDA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92280"/>
            <a:ext cx="44622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60792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8B82B-727C-40AC-8DFC-6E882911E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44622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9228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60792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60D38-710F-4AED-A783-7167D0105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9228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607920"/>
            <a:ext cx="91440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DFA11-CA42-469B-B1A1-F20865B03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9228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24640"/>
            <a:ext cx="6443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.А. Новик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L 5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524640"/>
            <a:ext cx="25909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B4D0-354D-4F7E-8429-2D8506F8C9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лиз и проектирование н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иков Ф.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ирование конечных автомат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 :=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le stat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imulus := get(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tch st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tch stimul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04973-EAD0-47B1-822A-BA9C1201F3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ремя жизни объектов (1.х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68360" y="852480"/>
          <a:ext cx="8520120" cy="60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52480"/>
                    <a:ext cx="85201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4B3D-6872-4065-8C36-D104E4C6766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eate Department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(1.х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6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D62F9-1BDC-4D2C-9350-BF3B18E627E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eate Department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(2.0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31099" b="58786"/>
          <a:stretch/>
        </p:blipFill>
        <p:spPr>
          <a:xfrm>
            <a:off x="216000" y="981000"/>
            <a:ext cx="8759880" cy="50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0FA89-C347-42C1-9520-897EB1504BD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ереотипы полюса ассоциаци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1.x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0" y="765000"/>
          <a:ext cx="914400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5000"/>
                    <a:ext cx="914400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A9AEF-D7A9-4202-B685-D616D58AF82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: рисование многоугольни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1225440"/>
            <a:ext cx="9147240" cy="563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590A-2DF3-474F-B92E-A64C1285A9D5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висимост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диаграмме коопераци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1.x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A9910-ED04-4DB3-971F-3DE9AE6F8C6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ультиобъект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1.x, 2.0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1390680"/>
            <a:ext cx="9147240" cy="546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FDD2B-FC56-492D-B17C-C5F8A1FD610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.7. Моделирование параллелизм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160280"/>
            <a:ext cx="914400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ллелизм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= взаимодействие последовательных процесс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ллельные состояния 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ные переходы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лки, соединения и обусловленные потоки управ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ытия 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инхронные сигнал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оки и процесс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ивные классы и объек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7FF2-9B6E-4570-8719-422633D7C3F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ИС ОК: назначение сотрудника на должност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9144000" cy="259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A9E21-832C-43F0-9959-3196D3BEF85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менение состояний при выполнении операции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1744560"/>
            <a:ext cx="9144000" cy="33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0E684-28B7-4558-862B-302389D04FD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втоматное программирован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Mod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урова (2005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TCH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хнология Шалыто (199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is.ifmo.r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-технология Вельбицкого (197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определенная архитектура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ниверсальный образец проектир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обытий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Управляющие автомат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бъект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управ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467D-68AF-452A-A95C-BDA6BD340C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05040" y="-360"/>
            <a:ext cx="82389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втомат класс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7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34457-FE76-48FC-8A43-0EE4496173B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9440" y="-360"/>
            <a:ext cx="84945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втомат класс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7974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940360" y="3860640"/>
            <a:ext cx="3024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/thePosition:=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/thePosition.fre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6D6E4-92AE-4900-8AB7-74E0417B568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й пример сценар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26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62537-CA0E-470D-AEE1-2427E9B6E10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ой пример сценар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1593720"/>
            <a:ext cx="9144000" cy="526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A468E-3A53-4277-A4C2-E73C6B2E652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09160" y="-360"/>
            <a:ext cx="8729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шибка 1: взаимная рекурс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1359000"/>
            <a:ext cx="9144000" cy="41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B9198-F3F6-43EB-A11A-42AE4B6B761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шибка 2: взаимная блокировк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643040" y="762120"/>
            <a:ext cx="5857920" cy="60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8B893-A8B5-4A00-9CFC-00A7D292BDC1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аллельные составные состоя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составные переход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0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ное последовательное состояние: множество состояний вложенных автоматов – путь в дереве вложен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ное параллельное состояние: гиперпуть в дереве И/ИЛ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ной переход: переход из составного состояния в и/или из составного состоя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тация: развилки / слияния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87CA3-BBE9-4140-982E-1171B2385265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рево составных последовательных состоян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1611360"/>
            <a:ext cx="9144000" cy="36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A0489-89C6-48EA-883D-ECD5B5C6D61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раллельно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тогонально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оставное состоян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16000" y="1305000"/>
            <a:ext cx="8690040" cy="521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95037-453C-4033-949A-38CB16CB068E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рево И/ИЛИ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1825560"/>
            <a:ext cx="8799480" cy="320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E035D-1FE4-4B72-BA95-1FA1F60687CD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2. Диаграммы состоян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218960"/>
            <a:ext cx="8480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оя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tat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simpl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ны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composit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ециальны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seud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ход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transi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sour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быт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ev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guard condi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ac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е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targe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B966B-9924-4002-9780-A1852656ED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ИС О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23960" y="914400"/>
            <a:ext cx="7696080" cy="561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92F79-2BDC-4078-AC40-4207D48E89F0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ной перехо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635040"/>
            <a:ext cx="914400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F794-C3F2-45AB-B001-C3438C4BF8C1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нхронизирующие состоя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79440" y="1371600"/>
            <a:ext cx="8385120" cy="517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1255-C560-407E-82EB-ECA4CF3CB61D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нхронизирующий объект в состояни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, 2.0</a:t>
            </a:r>
            <a:r>
              <a:rPr b="1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01680" y="1387440"/>
            <a:ext cx="853740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2818A-A996-4F81-A7F1-E43666728FA2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исатель –  читател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rcRect l="10000" t="4092" r="23543" b="59763"/>
          <a:stretch/>
        </p:blipFill>
        <p:spPr>
          <a:xfrm>
            <a:off x="33480" y="1270080"/>
            <a:ext cx="8823240" cy="464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CA111-777D-4873-A5CB-D18E0C87836E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звилки и соедин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160280"/>
            <a:ext cx="84582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вазипараллельные потоки управ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лк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fork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ин вход, 2..* выход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едине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joi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.* входов, один выхо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нхронизация в точке слия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ланс развилок / соединен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A643B-E8AB-4138-9B97-09DB17A4D29D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аланс развилок и соединен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04920" y="1155600"/>
            <a:ext cx="8534160" cy="454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0FF4D-F851-41AE-A1C1-512054E26C7C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 ИС ОК: Перевод сотрудни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752480" y="738360"/>
            <a:ext cx="6527880" cy="585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B20FE-9D3F-4665-871F-C5BA1DB21665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условленный поток управл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332000" y="758880"/>
            <a:ext cx="7165800" cy="609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0BD16-2DB0-45AD-AA6C-E991BC9C016D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ражение обусловленного потока управления через ветвле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82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838C8-CBAC-4322-8F55-77823E17E548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0320" y="-360"/>
            <a:ext cx="8888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модель машины состоян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3800" y="620640"/>
            <a:ext cx="8080200" cy="564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26235-A039-40E4-9BFC-B192D9BE20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гнал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16000" y="914400"/>
            <a:ext cx="8928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гнал – это именованный объект, который создается другим объектом (отправителем) и перехватывается третьим объектом (получателем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лючения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ный случай сигнал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гнал, как объект, может иметь атрибуты (т.е. параметр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диаграмме классов сигнал связывается с отправителем зависимостью со стереотипом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вязывается с получателем объявлением операции со стереотипом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a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78748-CD4F-4F6E-8EF1-609093062062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 ИС ОК: обработка исключительных ситуац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57120" y="2133720"/>
            <a:ext cx="9531360" cy="322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E95C1-91CD-4CD1-A3C5-6014893C0812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 ИС ОК: обработка исключительных ситуац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7185240" cy="497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32ABF-68DE-4D1C-AAF4-A82441B5419B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ток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thread)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процесс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28400" y="1676160"/>
            <a:ext cx="8258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сываются как активный класс со стереотипом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a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тация : жирный прямоугольник (1.х) или двойные линии на боковых сторонах (2.0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земпляр такого класса моделирует отдельный поток управ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и м.б. нарисована кооперация взаимодействующих объек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77853-514A-42AE-A2C5-0EFD23778840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ые автоматы — базовая алгоритмическая техника моделирования повед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состояний — вариант конечного автомата с различными дополнения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деятельности (= блок-схема) — частный случай диаграммы состояний с различными дополнения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ы кооперации и последовательности (диаграммы взаимодействия) семантически эквиваленты и являются протоколами выполнения (примерами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ллелизм на уровне программы моделируется с помощью взаимодействующих машин состояни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ллелизм на уровне операционной системы моделируется активными объект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8777-5B43-4DF1-8F4C-36036453CEEC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стое состоян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 (в 2.0 м.б. анонимные состояния!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е при вход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е при выход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енние переходы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l transition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ходы в себ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енняя активно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умолчанию - ожида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ложенные событ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кирование прерыван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38904-D539-4449-A758-49964E62A8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 ИС ОК: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стое состояние сотрудни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982880"/>
            <a:ext cx="9144000" cy="42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19B9A-CB4D-4BD9-98F6-02E0F06429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21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ходный фрагмен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85264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вивалентный фрагмен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480" y="838080"/>
            <a:ext cx="9029520" cy="2011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0920" y="3392640"/>
            <a:ext cx="8690040" cy="330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97C6F-680B-4656-92B1-C36EA20470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йствия на входе, выходе и переход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1680" y="2496960"/>
            <a:ext cx="8537400" cy="187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FCA8D-0308-4BF9-926E-018EA4D1F7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стой перехо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052640"/>
            <a:ext cx="84582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ЫТ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гнал, Вызов, Таймер, Изменение состоя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возникает событие, переход возбуждаетс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орожевое услов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то переход срабатыва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то переход не срабатывает и событие теряетс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/ Действ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олняется, если переход срабатыва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19083-F8E3-42D9-9229-0FDEF15123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ИС ОК: простой перехо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3600" y="2222640"/>
            <a:ext cx="8763120" cy="361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66954-52C6-4426-971D-AA6EB37BB1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лекц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981000"/>
            <a:ext cx="7419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зор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моделя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нденции развития язык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процесс разработ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005F2-8A91-48CB-AC86-3154629242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гментированные переходы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переходные состоя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6000" y="1084320"/>
            <a:ext cx="8254800" cy="577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D4850-1677-445C-9D47-4842466167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пользование предикат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07960" y="1168560"/>
            <a:ext cx="8128080" cy="568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23623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els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38862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els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BA2AA-3250-4438-A563-D6A9059E7A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пользование простых переход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160" cy="53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01B5B-59FC-4035-9335-A0C4933507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модель простого переход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708600" cy="51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8DA41-3F0B-4BF7-8243-28A83DF043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: ИС О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аблица состояний сотрудник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19320" y="1676520"/>
          <a:ext cx="7619760" cy="46479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  <a:gridCol w="1905120"/>
                <a:gridCol w="190476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оль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дид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ь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дид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дид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ести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олить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о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о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ь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о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о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AACAB-09AC-4C49-B1C0-2EF6DE2B4E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состояний сотрудник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1773360"/>
            <a:ext cx="8382240" cy="330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56340-8DAC-4F19-BB62-17F893CDF2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ные и специальные состояния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1.x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360" y="1428840"/>
            <a:ext cx="9144000" cy="51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ное состояние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овательное = вложенный автома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ллельно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ртогонально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несколько автом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ециальное состояние 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ьное состоя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лючительное состояние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вух вида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ходное состоя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ческое состояние (в двух вариантах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хронизирующее состоя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сылочное состояние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ложенный автома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ubmachine stat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ояние "заглушка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очки вх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ry poin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ход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exit poi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8FD0A-8A35-4EC5-8871-7F35F6088E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ояния сотрудник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743040"/>
            <a:ext cx="8242200" cy="61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BE5E2-C515-457A-8374-E90526CB18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етофор (составные состояния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68360" y="657360"/>
            <a:ext cx="7166160" cy="57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4951-0F91-45D2-9EFF-EED039FD886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етофор (простые состояния)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305920" cy="580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B92D7-3027-498C-8A46-F4FAC6C364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. Моделирование повед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160280"/>
            <a:ext cx="91440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1. Конечные автома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2. Диаграммы состоян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3. Диаграммы деятель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4. Диаграммы взаимодейств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5. Диаграммы коммуника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6. Диаграммы последователь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7. Моделирование параллелиз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1EAD-8CE9-48C3-A6E5-2722A27923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редные совет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уйте имена состояний, которые предлагает инструмент: State1, State2 и т. д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гда не рисуйте более одного заключительного состоя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исуйте столько вложенных состояний, сколько поместится на листе, но ни в коем случае не используйте переход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жд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оставными состояниям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допускайте ситуации, когда переход из начального состояния ведет в простое состояние той же машины состояний: такой переход должен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есека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есколько границ составных состоян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1EA73-5FCA-461F-BAAE-48D8D9A7F5C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ходы между составными состояниям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508040"/>
          <a:ext cx="10671120" cy="53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8040"/>
                    <a:ext cx="1067112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B7502-521F-4DD0-A855-A5F6240C48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торическое состоян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3240" y="1546200"/>
            <a:ext cx="9147240" cy="37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93AEB-CCAB-49B4-BFA9-1D3EFF516C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сылочное состояние и заглушка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3240" y="1368360"/>
            <a:ext cx="9147240" cy="412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000B0-C6E4-41F4-A56C-0FAFE8CD243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31640" y="1233360"/>
            <a:ext cx="8305920" cy="5018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сылочное состояние и заглушка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0B055-9FBA-414C-B078-9155B15832A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ложенные машины состояний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18999" t="7397" r="32813" b="63026"/>
          <a:stretch/>
        </p:blipFill>
        <p:spPr>
          <a:xfrm>
            <a:off x="720720" y="693720"/>
            <a:ext cx="806436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BF7EF-9DC2-437B-9B6F-D550388DEB9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ложенные машины состояний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3847" t="23375" r="21704" b="44975"/>
          <a:stretch/>
        </p:blipFill>
        <p:spPr>
          <a:xfrm>
            <a:off x="36360" y="1015920"/>
            <a:ext cx="9107640" cy="441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2B977-E5CD-4306-9E1B-93129104FD4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520" y="152280"/>
            <a:ext cx="6324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модель состоя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99480" cy="668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B3854-A002-42C1-9129-9038F5B319B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быт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060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бытия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шние – передаются между системой и действующими лиц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ие – передаются между объектами внутри систем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L 1.4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зличаются,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L 2.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аются – событие от точки вх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ы событ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з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all ev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е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even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йме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ime ev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гнал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 even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27D6C-19F0-4AD9-AC31-42C5C851077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бытие вызов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1266480"/>
            <a:ext cx="8458200" cy="32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мат моделирует поведения объекта – вызов операции объек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ет иметь аргументы и возвращать результа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ый распространенный случа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19520" y="4195800"/>
            <a:ext cx="3504960" cy="19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5647C-7B5A-4725-8A17-8471A28B37C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.1. Конечные автомат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34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ходной алфави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А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…,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фавит состоян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я переходо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ходной алфави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…,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я выходов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мат Мил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мат Мур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Q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ьное состоян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лючительные состоя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FA0C9-0D19-429A-ACB5-567C2D15BC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ИС ОК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e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3240" y="1859040"/>
            <a:ext cx="9147240" cy="313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55FD3-A909-43E9-A2E5-8E374010778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ИС ОК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e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446120"/>
            <a:ext cx="9144000" cy="396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4ED06-2860-4AB1-ABCA-80E009570A5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бытие измен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891540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еское выраже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ытие изменения наступает, когда значение выражения становитс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можен эффективный демо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ямые указатели от использующих вхождений к определяющем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тные указатели от определяющего вхождения к использующим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11160" y="4687920"/>
            <a:ext cx="7318440" cy="175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47B2-8D21-4FC6-A950-5278D1FD8F3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бытие таймер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3456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жение, доставляющее длину интервала времен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ытия времени применяются на переходах в автомата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счет времени (момент 0) связывается с моментом входа в текущее состоя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ймеры состояний независи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4680000"/>
            <a:ext cx="7924680" cy="181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A4550-D8EB-4B82-B7FD-2E0D34EA43E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аймер и «абсолютное» врем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4464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тандарт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even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но подразумеваются ЧАСЫ, а не ВРЕМ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вод: «событие таймера», а не «событие во времени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задать переход по астрономическому времени (системным часам!), используется СОБЫТИЕ ИЗМЕНЕНИЯ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(date = “1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преля 2006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854C5-BF37-41C9-958E-0CBD33710D2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бытие сигнал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87264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бытие сигнала наступает, когда послан сигна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гнал – класс со стереотипом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a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трибуты сигнала = парамет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можная иерархия обобщений сигналов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ылка сигнала = создание объек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 принимает сигнал = имеет операцию с именем сигнала и стереотипом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a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ироковещательный сигнал: посылается множеству объект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лючение = частный случай сигнал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80528-3AB3-4498-9818-1AD9055B619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18640" y="-360"/>
            <a:ext cx="8325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исание сигнал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2011320"/>
            <a:ext cx="9144000" cy="28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59358-B12F-48CF-9DCE-F4F911D9CFF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ылка сигнал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7240" cy="3670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43434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ход по событию сигна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14440" y="5172120"/>
            <a:ext cx="8115120" cy="168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9F99A-299C-45F3-AE5B-91339850B47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18640" y="-360"/>
            <a:ext cx="8325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модель событ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623360" cy="574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9DE2D-AA44-48B6-A2F8-5460C5389A6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токольный автома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назначен для задания допустимых последовательностей операц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ереходах нет действ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ючевое слов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{protocol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0" r="44334" b="70187"/>
          <a:stretch/>
        </p:blipFill>
        <p:spPr>
          <a:xfrm>
            <a:off x="719280" y="2924280"/>
            <a:ext cx="6697440" cy="347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119F2-3C51-4CCA-B61E-EC730059308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дификации конечных автомат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16064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я переходов с побочным эффектом = процедура реак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кция: запись/чтение на потенциально бесконечную ленту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машина Тьюринг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кция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sh, po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стековая память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газинный автома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ход одного на входы других: взаимодействующие автома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ояния одного являются входами другого: взаимодействующие автома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C486F-CAF1-430E-8FA2-D5D2553626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.3. Диаграммы деятельност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836640"/>
            <a:ext cx="83818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нового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ь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е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ход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transition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вле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decision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лки и слия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fork &amp; joi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рожк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swim lan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ектория объекта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flow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ылка и прием сигнал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рывания и исключения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9D6B-4217-4616-88AC-1A8D541ED6A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нового 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зависимая семантика маркер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оки управления и/или потоки данны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оженность (структурная декомпозиция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антика разделов (дорожек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ботка множеств объек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метризация деятель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ширенный набор действий (из 1.5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ключения и преры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условия и постусловия действ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4FC4-9BBA-4B8D-A42D-4242CD38F9E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мантика маркеров 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512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ры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ркер управления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flow toke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(пустой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ркер данных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at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w token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со ссылкой на объект или структуру данных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злы – действия с контактам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n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, параметры, объект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ata store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ра управления и ребра данных соединяют узл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ры возникают, перемещаются и исчезаю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чальное состояние создает маркер управления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раметр деятельности создает маркер данны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ходной контакт действия поглощает маркер данны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ходной контакт действия создает маркер данны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лючительное состояние поглощает маркер управлен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лка размножает маркер управлен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единение склеивает маркеры управлен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твление направляет маркер управления или данны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ловие выполнения дей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бра данных, входящие во все входные контакты, готовы передать маркеры данны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есть входящие ребра управления, то хотя бы одно готово передать маркер управлен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 выполнения дей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ребра данных, выходящие из выходных контактов, готовы передать маркеры данны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есть исходящие ребра управления, то все готовы передать маркер управления (но маркер один – конкуренция, кто первый готов, тот и получит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91431-3F40-4473-B420-0F2780ECFDB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йствие и деятельность 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UML 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е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томарно (не может быть прервано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ершается (всегда и само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гновенно (время выполнения мало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довательность действий = действ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торител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ейств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ctiv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жет быть прервана событием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жет продолжаться неограниченно долг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E9DC2-9366-4186-B07A-D019513E20C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действий в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1.1-1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сваивание знач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зов операц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дание объек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ничтожение объек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tro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врат знач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ылка сигнал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тан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интерпретируемое действ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17FC2-D3B6-4AC1-A6BD-BBDBB92E9A9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348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модель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йствий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1-1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460600" y="0"/>
            <a:ext cx="66834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0AD2C-97C4-481B-B58D-617C55EB9CC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 rot="16200000">
            <a:off x="-2895840" y="289548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ояние действ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1.x -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шне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873520" y="0"/>
            <a:ext cx="627048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B418-C3DE-4A90-9629-0490A285556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ы действий 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L 1.5-2.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из 5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692280"/>
          <a:ext cx="9144000" cy="5732280"/>
        </p:xfrm>
        <a:graphic>
          <a:graphicData uri="http://schemas.openxmlformats.org/drawingml/2006/table">
            <a:tbl>
              <a:tblPr/>
              <a:tblGrid>
                <a:gridCol w="2448000"/>
                <a:gridCol w="2987640"/>
                <a:gridCol w="370836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ифик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sClassified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ка кл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lassify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кл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Ex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всех объектов кл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adcastSig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оковещательная передача сигн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правка сигнала как объ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Sig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правка сигнала со списком аргум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с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yFun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сление без побочных эффе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aq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ется реализац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D37AC-2815-4883-84BE-0EBEB9457E5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ы действий 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L 1.5-2.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из 5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692280"/>
          <a:ext cx="9144000" cy="5918040"/>
        </p:xfrm>
        <a:graphic>
          <a:graphicData uri="http://schemas.openxmlformats.org/drawingml/2006/table">
            <a:tbl>
              <a:tblPr/>
              <a:tblGrid>
                <a:gridCol w="2448000"/>
                <a:gridCol w="2987640"/>
                <a:gridCol w="370836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ClassifierBehav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уск потока упра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ый вызов мет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Behav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зов процед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буждение исклю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ение и запи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StructuralFe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значения атрибу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LinkObject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значения по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StructuralFe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ваивание значения атрибу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и уничт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объ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roy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ление объ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4799B-04CD-4747-ACC4-426C4D97A3C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лементы диаграммы деятельности 1.х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ояние деятельности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ействи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х: простое состояние и внутренняя активность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является деятельность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0: действие, в т.ч. вызов деятель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ажение деятель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х: синтаксис не определе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0: синтаксис действий определяет инструме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хо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завершении (можно и по событию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передаче данн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гментированный (ветвления и параллелизм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 сторожевыми условия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действиями на переход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8EC18-338F-4967-A317-3FD5A475E20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 автоматы интересны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орема Райса. Все нетривиальные свойства программ алгоритмически неразрешимы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вивалентнос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ершаемос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тимальность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тальнос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вестны частные случаи (автоматы), для которых есть разрешающие алгорит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C2098-78E9-4269-AFC9-0C86730508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 ИС ОК: реализация операц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антик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х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а деятельности – частный случай машины состоян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ход от блок-схемы к графу переход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лучшение кода на уровне диаграм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5AB40-9FBD-45E3-A7E2-38521AA2B6F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ete Department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1015920"/>
            <a:ext cx="8381880" cy="501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EA78A-253A-4ED7-A522-C6D72C15B29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631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ete Department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7640" y="944280"/>
            <a:ext cx="7810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dpt.size() &gt; 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 := dpt.getNextPos(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not pos.isFree() th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d posOccupied(po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pt.deletePos(po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til dpt.siz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eteDpt(dpt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0278B-575A-496C-AA67-CD4D395B9DB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40384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et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partment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(1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003560" y="0"/>
            <a:ext cx="514044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1DD42-0740-4332-8C5F-0634A75B5F0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бы это значило? (в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1.x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79440" y="1863720"/>
            <a:ext cx="8385120" cy="313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9F9C7-4720-4092-80E9-528F855E2C3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мантика «? ? ?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1909800"/>
            <a:ext cx="8686800" cy="303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29CFA-3E39-4270-85EF-3BD623190B4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 rot="16200000">
            <a:off x="-2742840" y="274320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ete Department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(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70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20D29-EE4B-4A2E-85FF-C3E2010FEDE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32960" y="-360"/>
            <a:ext cx="84106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ete Department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 (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1056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le dpt.size() &gt; 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 := dpt.getNextPos(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not pos.isFree() th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d posOccupied(po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pt.deletePos(po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eteDpt(dpt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987E2-DED3-45A8-BE8B-45D645EC8F0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ete Department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(3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58920" y="1089000"/>
            <a:ext cx="8534160" cy="50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07327-B79E-4E21-BC91-029F8B87AAD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ete Department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49120" y="1981080"/>
            <a:ext cx="8645760" cy="411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82E23-8EDD-4497-8035-E34A0E3E272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6920" y="-360"/>
            <a:ext cx="8496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аблица конечного автомат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66680" y="1349280"/>
          <a:ext cx="7696440" cy="4898880"/>
        </p:xfrm>
        <a:graphic>
          <a:graphicData uri="http://schemas.openxmlformats.org/drawingml/2006/table">
            <a:tbl>
              <a:tblPr/>
              <a:tblGrid>
                <a:gridCol w="1924200"/>
                <a:gridCol w="1924200"/>
                <a:gridCol w="1923840"/>
                <a:gridCol w="1924200"/>
              </a:tblGrid>
              <a:tr h="12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мул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мул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B7013-B4A4-42B1-9DFE-6B371DA1F9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824360" y="4473720"/>
            <a:ext cx="3733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et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partment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2C4C0-A882-4AB3-8199-96882EB5390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lete Department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нотаци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18332" t="11831" r="8556" b="57702"/>
          <a:stretch/>
        </p:blipFill>
        <p:spPr>
          <a:xfrm>
            <a:off x="971640" y="1341360"/>
            <a:ext cx="7813440" cy="37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E346-D37E-4FBC-9E19-3BA44A5A840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rcRect l="3507" t="0" r="22714" b="43200"/>
          <a:stretch/>
        </p:blipFill>
        <p:spPr>
          <a:xfrm>
            <a:off x="755640" y="0"/>
            <a:ext cx="7885080" cy="691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3E241-DDB1-40FE-A9A1-4B809A1685A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делы (плавательные дорожки)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1.4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извольная классификация действий – графический комментар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2.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гут быть использованы для разнесения действий по класса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ированные и ортогональные раздел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двум направлениям – по вертикали и по горизонтал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одразделениями на более мелкие подраздел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 стандартными стереотипа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&lt;class&gt;&gt;, &lt;&lt;property&gt;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 Designer 2006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оддерживаютс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9AB51-AE8F-4CA8-A7C3-15E53EDE624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9440" y="-360"/>
            <a:ext cx="84945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ИС ОК: прие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1680" y="1235160"/>
            <a:ext cx="8537400" cy="438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481B3-CA35-4354-8DD3-2B01FFDB82A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895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рожки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wim lan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i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819520" y="382680"/>
            <a:ext cx="6092640" cy="60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9475C-4104-4CCF-9E29-2D742E9B586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 rot="16200000">
            <a:off x="-2819520" y="297180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аектория объект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47920" y="87480"/>
            <a:ext cx="7416720" cy="668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92AB-B96E-4BEA-97B0-E96DC01FB5D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 rot="16200000">
            <a:off x="-2895840" y="289548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аектория объект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981080" y="415800"/>
            <a:ext cx="6705720" cy="602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12C3-52EB-4275-9D60-A11DAE8FE4F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правка и прием сигналов (1)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7920" cy="602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7453F-2E30-42AC-B8E5-C217488A5F2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87964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правка и прием сигналов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66680" y="260280"/>
            <a:ext cx="8077320" cy="607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91575-1652-4135-8695-8DB022D56CF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раф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ояний 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ереход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59876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8D10-929D-40C3-9E98-FECF6A8B03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правка и прием сигналов 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16651" b="64212"/>
          <a:stretch/>
        </p:blipFill>
        <p:spPr>
          <a:xfrm>
            <a:off x="236520" y="1341360"/>
            <a:ext cx="8907480" cy="43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ABFA6-5200-4C7A-A8F1-712A7339DBB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модель элементов диаграммы деятельности 1.х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11280" y="944640"/>
            <a:ext cx="670896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93FC7-FCAD-4BCE-A18B-52125A6E3B8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.4. Диаграммы взаимодейств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2560" y="1142640"/>
            <a:ext cx="8821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ы коммуникации и диаграммы последовательности семантически эквивален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кты: экземпляры классификаторов – классов и действующих лиц (а также узлов и компонент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язи: экземпляры ассоциац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общения: передаются вдоль связе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C9D02-C660-4B90-A275-A95CA342190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общ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680" y="914040"/>
            <a:ext cx="82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зов опера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может вызвать свою операци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ерация должна быть определен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возврат знач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казывать отдельно не обязательн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посылка сигна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действие автомат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создание объек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зов конструктор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tro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уничтожение объек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может уничтожить себ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6F4EC-E0C8-4B43-B23A-0BE6A101888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тация сообщений на диаграммах коммуникации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елка поверх связ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о сообщ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шественники / повторность номер 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тереотип» переменные := ИМЯ (аргумент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шественни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исок номеров сообщений, предшествующих данном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торност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рожевое услов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ерация сообщ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]  = broadcas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20402-BEE5-4A45-A38B-FF310D70A6B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тация сообщений на диаграммах коммуникации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реоти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т.д. – не обязателе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мер сообщ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ерархическая десятичная нумерация – отражает вложенность потоков управл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араллельные потоки, то букв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 B,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менны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возвращаемых значени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8893C-F6A9-49EC-A6A1-D03B718810CF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6000" y="0"/>
            <a:ext cx="8928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передачи сообщен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62120" y="1676520"/>
          <a:ext cx="7657920" cy="4394160"/>
        </p:xfrm>
        <a:graphic>
          <a:graphicData uri="http://schemas.openxmlformats.org/drawingml/2006/table">
            <a:tbl>
              <a:tblPr/>
              <a:tblGrid>
                <a:gridCol w="1682640"/>
                <a:gridCol w="5975280"/>
              </a:tblGrid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переда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оженный поток управлени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й поток управлени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инхронный поток управлени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врат управлени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оп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ет быть добавлен инструмент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977760" cy="4078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90720" y="3233880"/>
            <a:ext cx="904680" cy="388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143000" y="3886200"/>
            <a:ext cx="968400" cy="404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1295280" y="4648320"/>
            <a:ext cx="905040" cy="38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7FEF5-FAB8-4F9C-AD12-A82CBD16FFAA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модель сообщ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04920" y="692280"/>
            <a:ext cx="8839080" cy="567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DC09B-6823-4DEC-8A87-5732AAABC06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.5. Диаграммы последователь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-360" y="1160640"/>
            <a:ext cx="900108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ния жизни объект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life lin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ка времени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stam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раничения на врем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ержанная доставка сообщ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2.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явились разновидности диаграмм последовательности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ные шаг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mbined Fragment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а синхронизации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ing Diagra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зорная диаграмм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действ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Interaction Overview Diagra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21091-D180-4C38-B9E6-467FF3E522E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 ИС ОК: создание подразде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47640" y="800280"/>
            <a:ext cx="7925040" cy="564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C5EBE-56CA-425C-91C7-D67024DD3A2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583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нения автомат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015560"/>
            <a:ext cx="846288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нсляц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претац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ссивный пользовательский интерфей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ы, управляемые события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жизненного цикла объек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оведение зависит от прошлог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есть асинхронные стиму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03672-6F93-4E78-9ED6-35C82372FE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ержанная доставка сообщен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60320" y="1469880"/>
            <a:ext cx="7623360" cy="538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F49BC-E70D-41F2-9DA2-E102E531301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 rot="16200000">
            <a:off x="-2076480" y="2876760"/>
            <a:ext cx="57150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ктивация и возвра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295280" y="204840"/>
            <a:ext cx="7467840" cy="63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CB086-1EAC-439F-920A-E9ADA4A06D7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твления (1.х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04920" y="281160"/>
            <a:ext cx="8534160" cy="629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D466-73C1-4965-85C0-933D657F25E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 rot="16200000">
            <a:off x="-2362320" y="236196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стояния объекта н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аграмме последователь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800440" y="0"/>
            <a:ext cx="634356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6386B-C265-4665-B3C5-9080C0177F5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ставные шаги взаимодейств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0" y="692280"/>
          <a:ext cx="9258480" cy="5581440"/>
        </p:xfrm>
        <a:graphic>
          <a:graphicData uri="http://schemas.openxmlformats.org/drawingml/2006/table">
            <a:tbl>
              <a:tblPr/>
              <a:tblGrid>
                <a:gridCol w="1258920"/>
                <a:gridCol w="3205080"/>
                <a:gridCol w="479448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 в каждом шаг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 одной альтернати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раничение в шаг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ка инвариа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 в шаг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кращение супер ша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сообщ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матриваемые сооб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сообщения запрещаются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сообщ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норируемые сооб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и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клическое повторение ша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рещенная последова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ное выполнение ша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ллельное выполнение ша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е упорядочение ша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ое упорядочение ша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F2DB4-F1F0-4528-AC76-3C651E4AB38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0" t="2648" r="20455" b="35201"/>
          <a:stretch/>
        </p:blipFill>
        <p:spPr>
          <a:xfrm>
            <a:off x="576360" y="0"/>
            <a:ext cx="7740720" cy="689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0A36-E9B2-453D-81EB-583B447749D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сылка на взаимодействие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action us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1159" t="1162" r="25154" b="48050"/>
          <a:stretch/>
        </p:blipFill>
        <p:spPr>
          <a:xfrm>
            <a:off x="179280" y="909720"/>
            <a:ext cx="9001080" cy="550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1CCF9-D058-4A94-A91C-E2B20037C10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зорная диаграмма взаимодействия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action Overview Diagram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тая и полезная идея из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а взаимодействия в форме диаграммы деятель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место действий – диаграммы взаимодействия (последовательности или коммуникации) (ил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вления и развил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е поддерживается в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ogether 200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EBC51-F971-4DEC-96F6-6E489D58652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синхронизаци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iming Diagra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ая и полезная идея из схемотехни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оси абсцисс – время (в масштабе)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оси ординат – полоса жизни, подразделенная на состоя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ния жизни – ломан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изонтальный отрезок – объект в состоян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тикальный (или наклонный!) отрезок – смена состоя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ло вертикального отрезка сообщение, вызывающее изменение состоя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 поддерживается в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ogether 200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040A8-CDAB-4353-81DF-D2BA240891BA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.6. Диаграммы коммуникации и коопер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375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очнение понятий при сохранении общей концеп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х роль классификатора = слот объект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.0 роль (часть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х роль ассоциации = слот связ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.0 роль (соединитель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х контекст взаимодейств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объектов без сообщений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.0 кооперац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перация м.б. описан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труктурированном классификатор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честве образца проектиров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любом контексте (например, вариант использования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перация является классификатором (но не классом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перация, нагруженная сообщениями, образует диаграмму коммуникаци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BF649-76D8-497B-9762-8A1AA411E3BE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9T09:46:45Z</dcterms:created>
  <dc:creator>Fedor A. Novikov</dc:creator>
  <dc:description/>
  <dc:language>en-US</dc:language>
  <cp:lastModifiedBy>Fedor Novikov</cp:lastModifiedBy>
  <dcterms:modified xsi:type="dcterms:W3CDTF">2006-03-26T17:15:57Z</dcterms:modified>
  <cp:revision>79</cp:revision>
  <dc:subject/>
  <dc:title>OO Analysis &amp; Design with UML (elementary)</dc:title>
</cp:coreProperties>
</file>