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BE32-EE3D-4A45-8F2F-2BA324FF7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701160"/>
            <a:ext cx="91440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9A65-7FF7-4D92-A1EF-2280674F3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70116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70116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C01C-F2B1-4295-B786-0680E0861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29440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91920"/>
            <a:ext cx="29440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91920"/>
            <a:ext cx="29440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701160"/>
            <a:ext cx="29440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701160"/>
            <a:ext cx="29440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701160"/>
            <a:ext cx="29440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F125-8517-4D25-8F40-2B7F9F7E80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A653-281D-4CBF-B940-566924FB1E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E70B-C872-426A-832E-6C42C02BF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C736-349C-49AF-B02A-C938B64FA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85A9-6C37-404B-A2B9-0BE9D0D83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687D-2352-48D3-BFEF-E6CBDA128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70116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0D4A-C50D-4C04-AF78-EE9387B23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70116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2B58-D30B-4B22-A7D8-BEBAE1555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701160"/>
            <a:ext cx="91440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91EC-727B-4E7B-9790-7F861889F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16640"/>
            <a:ext cx="60199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.А. Новико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4. Моделирование структу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590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B7CD-5F40-436A-AE4D-63743677B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83808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U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.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щие свойств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ификатор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1160280"/>
            <a:ext cx="83170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имо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isibi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только у классификато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сть действия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только у классификато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izatio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ко для классификато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ледование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eritanc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тно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ultiplic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только у классификато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6297-FF7B-429F-9DBD-D964020E82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имост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им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ожет ли свойство одного классификатора использоваться в другом классификато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крытый (+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щенны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#) prot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рыты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-) priv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6DF9-764C-4E18-A308-021AB03350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ласть действ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6760" y="1142640"/>
            <a:ext cx="8558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ласть действ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как проявляет себя свойство классификатора в экземплярах, т.е. имеют экземпляры индивидуальные значения свойства или совместно используют одн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земпляр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молчан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lassifier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подчеркивается (аналогичн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A7C4D-7B58-468C-8251-CC86D71E0A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бстракт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не могущий иметь непосредственных экземпля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аследники могут иметь экземпля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стовой – не могущий иметь потомков (свойств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leaf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имер, в листовом классе не может быть абстрактных операц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евой – не могущий иметь родителей (свойств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root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тся, если есть несколько независимых иерархий наследо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жественное наследование поощряет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фликты наследования – проблема архитектор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не язы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6AF8-C65A-47C8-92E2-EBDD8156AB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тност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тно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ultiplicity)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аничение (обычно сверху) на количество экземпля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перевода – множествен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тность м.б. у классификаторов, атрибутов и полюсов ассоциац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экземпляров – служебный класс, служб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utility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вно один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ton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оч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ксированное число экземпля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имер, порты в концентрато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вольное число экземпляров – по умолчани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тный атрибут = масси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E813-EA73-4370-B3CB-663062BAC7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классификатор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1274760"/>
            <a:ext cx="9146880" cy="4308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77080" y="4292640"/>
            <a:ext cx="100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6545-018B-49A2-8F24-703B731526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3. Элементы диаграмм класс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0400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cla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nterfa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данных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Пакет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(packag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Примечание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(no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ация (в т.ч. агрегирован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бще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generaliz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исим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dependenc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иза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mplement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FC2C-3855-4955-B612-0B13190DE9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ы 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944280"/>
            <a:ext cx="8501040" cy="56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 имен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тереотип» ИМ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ратн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 атрибу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имость ИМЯ кратность :тип =начальное_значе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 опера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имость ИМЯ (параметры) :ти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ые разделы (или примечание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BBC1F-BD75-4EE1-BEF3-DCA86BB2F4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43280" y="692280"/>
            <a:ext cx="6467400" cy="53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92AD-A985-40C1-8772-A072C55A3E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ндартные стереотипы класс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304640"/>
            <a:ext cx="9144000" cy="51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clas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земпляры являются класс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typ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акласс, экземплярами являются все наследни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ого клас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typ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еоти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экземпляров = служб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атрибутов и все операции абстракт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typ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анны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числимый тип данн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Clas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клас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ующее лиц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земплярами являются сообщ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гнал, распространяемый по иерархии обобще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ые клас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35796-8116-4FAC-945C-C5F3FBED35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07640" y="1088640"/>
            <a:ext cx="7419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1E2E-9E99-4A00-BC52-B29C4243E6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трибу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837720"/>
            <a:ext cx="8343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имость ИМЯ кратность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ьное_значе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имость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#  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, integer, …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итивы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числен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false, true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имя типа или клас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черкивание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тно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0..2], [1..*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changeable}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о умолчани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addOnly}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добавление значений в масси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frozen}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создания нельзя меня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2A14E-3A80-469F-A8F3-132AC086B7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ы атрибу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name : St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name [1..3] : St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name : String = “Novikov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name : String {frozen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0BDB-D47F-4B62-A587-D5CF4A079C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имость ИМЯ (параметры) :ти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е передачи ПАРАМЕТР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= знач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передачи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,  out,  inou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черкивание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isQuery}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без побочных эффект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sequential}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один по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guarded}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в каждый момент од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concurrent}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омарност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ирование с помощью стереотип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F4D64-6F64-4634-B1DE-50EAA52406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ы опера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691920"/>
            <a:ext cx="8534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move(in from, in to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move(from : Dpt, to : Dp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getName() : String {isQuery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setPwd(in pwd : String = “password”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E94F-DA5D-4345-968A-95359B5461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ые раздел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7160" y="1371600"/>
            <a:ext cx="7981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Примечание к класс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чания к операциям: предусловия и постуслов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формальные, но полезные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C – Class Responsibility C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ые разде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get-set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B620D-8243-4D23-966B-792C3FC3B3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6360" y="549360"/>
            <a:ext cx="7740720" cy="58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1D20-9CDB-4D54-90E9-A0B03D5F86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дентификация класс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7280" y="1052280"/>
            <a:ext cx="8610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арь предметной област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а существительные в Т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вариантов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 на диаграммах взаимодейств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 в состоянии на диаграммах деяте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цы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tern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ир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ец – параметризованна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о классам) кооперац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9EF9-2277-4C27-BDCB-32C0B86586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арь предметной обла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4240" y="1295280"/>
            <a:ext cx="8429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ем, перевод и увольнение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сотрудник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и ликвидация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подразделе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1" lang="ru-RU" sz="4000" spc="-1" strike="noStrike">
                <a:solidFill>
                  <a:srgbClr val="ccccff"/>
                </a:solidFill>
                <a:latin typeface="Arial"/>
              </a:rPr>
              <a:t>ваканс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сокращение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должносте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A9BF-9320-4570-A603-C3BFF0A3BC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лизация вариантов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rePerson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ой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Hire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Depar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10C32-BEAE-409B-AEBB-31790AE7B2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нение образц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314000"/>
            <a:ext cx="86770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е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-Model Sepa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odel- View-Controlle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ривиальные соображения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логовое окно не должно прямо манипулировать данны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, ответственный за хранение и обработку данных не должен содержать интерфейсных элемен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re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14BE0-A1E0-4F9D-BDD1-E252B50DF6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Моделирование структу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72640"/>
            <a:ext cx="9144000" cy="59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1. ОО статическое моделирова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2. Классификато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3. Элементы диаграмм клас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4. Идентификация клас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5. Отношения на диаграммах клас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6. Интерфейсы, типы данных и ро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7. Внутренняя структура объект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7. Диаграммы компон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8. Диаграммы размещ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4C1E-CBFD-4CD3-9CC1-D6AA015557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2960" y="1393560"/>
            <a:ext cx="80438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исимости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 и стереотипн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ключая множественное наследов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оциация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ключая агрегацию и композици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реализует интерфей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C625-ABF5-4376-80C4-CAE51F3B1D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реотипные зависимости на диаграмме классов 1.х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авляет параметры в шабло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derive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роизводный элемен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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riend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имеет специальные права видимости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instanceOf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является экземпляром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instantiate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создает экземпляры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powertype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множество потомков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refine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уточняет / конкретизиру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 реализу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use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использу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 зависимость без стереотип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6FEE-F7D0-432F-9A42-4DFC806DB7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изводные элемент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091" t="7022" r="26593" b="62706"/>
          <a:stretch/>
        </p:blipFill>
        <p:spPr>
          <a:xfrm>
            <a:off x="503280" y="1197000"/>
            <a:ext cx="8137440" cy="334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3280" y="360828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оизводная ассоци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34EE1-5327-4A9D-9768-56F5D0FB49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елка с треугольником от подкласса к суперкласс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очное и множественное обобщение: т.е. наследова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е иерархия, а решет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реотип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рытое наследование С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анич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complete}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ерархия заверше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incomplete}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ерархия не заверше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C715-7B18-47A9-B686-4D30EBBDF1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жества обобщений и подтип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6151" t="8764" r="3962" b="50622"/>
          <a:stretch/>
        </p:blipFill>
        <p:spPr>
          <a:xfrm>
            <a:off x="539640" y="1376280"/>
            <a:ext cx="8204400" cy="422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98100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ножество подтип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7280" y="551664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ножество обобщ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11640" y="548172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ножество обобщ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074E-5B8C-4CAA-A292-685E054C60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ецификация экземпляра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3009" t="10824" r="17635" b="54665"/>
          <a:stretch/>
        </p:blipFill>
        <p:spPr>
          <a:xfrm>
            <a:off x="287280" y="1881360"/>
            <a:ext cx="8640720" cy="3816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6000" y="3321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пецификация экземпля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11640" y="10526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оздает экземпля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FAB9-CB27-4B02-BE0F-FEAA96BBD2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 ассоциации (возможно, вместе с направлением чтения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ность полюса 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 агрегации полюса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-4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ь полюса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е навигации полюса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имость полюса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орядоченность объектов на полюсе ассоциации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яемость множества объектов на полюсе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лификатор полюса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полюсные ассоциации </a:t>
            </a:r>
            <a:r>
              <a:rPr b="1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57C4-7428-493D-B5AC-1A989E94E58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я 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691920"/>
            <a:ext cx="80010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ычно ес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ю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указать направление чт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8080200" cy="26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DB70-9719-4976-A827-61FC6E5B63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тность полюса 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69192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экземпляров объектов может быть на данном полюсе связ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* - неопределенное числ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620120" cy="33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7343-4AC7-4EDC-9517-0AF7BFA275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грегация и компози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грега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Часть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изменяет направления навигации и не накладывает ограничений на время жизн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ози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вально «состоит из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принадлежит только одному целом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емя жизни частей совпадает с временем жизни целог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траивание и ссылка на объек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A3E5-4924-4E0C-B7F8-A02938E4B9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1. ОО статическое моделиров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000" y="1088640"/>
            <a:ext cx="76690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скриптор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ступление про ОО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: Какой? Чего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5102-BCB8-4A2A-AFEC-813C6ABF2C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ы композиции и агрег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1030320"/>
            <a:ext cx="853416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0F17D-917E-4A41-B1E5-73DB4B1348D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ы ассоциа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584280"/>
            <a:ext cx="7229520" cy="589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E621A-6776-471A-8DD8-AB5DC3B7124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ль полюса 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28280"/>
            <a:ext cx="7353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имость ИМЯ : тип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944640"/>
            <a:ext cx="8534520" cy="536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D026-329C-4F04-94D6-7EC13274843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правление навиг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14400" y="1506600"/>
            <a:ext cx="7315200" cy="384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A62C-FADC-430B-9ADB-16F50D2F83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имость полюса ассоциации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чужих – связанные ассоциацией всегда видят друг друг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3280" y="1844640"/>
            <a:ext cx="8381880" cy="43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9967-53F7-4D67-A72D-C935B59B910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орядоченность и изменяемость множества объектов на полюсе связ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3520" y="3125880"/>
            <a:ext cx="8610480" cy="161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E655-6DC8-4E44-B896-DD5A88EFD3D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валификатор полюса 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5373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валификатор – это атрибут ассоциа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29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8426-25A0-4769-AC16-60237327858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 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0840" y="1676520"/>
            <a:ext cx="9147240" cy="489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E4DE-3625-4018-8ADD-93F1C90D652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полюсные 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692280"/>
            <a:ext cx="8229600" cy="581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4449-FC2F-4931-AFF0-87DE67CADD0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526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839440" cy="652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7F48-4143-4C3F-8F98-7DEFC04E4B9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скрипто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00280"/>
            <a:ext cx="9144000" cy="53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статична и существенно конечна, выполнение динамично и практически бесконечно – структур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г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писывает модель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скрипто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конечное описа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ntent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сконечного множе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xte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терал – самоопределенное значе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ти все элементы модели (классы, варианты использования, узлы, ассоциации …) суть дескрипто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чания – литера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9E34E-87B0-47DC-BCC5-CDF137B1F5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6. Интерфейсы, типы данных и рол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44280"/>
            <a:ext cx="91440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фейс = именованный набор абстрактных опера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ует Интерфей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 использует Интерфей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 может реализовывать много интерфейсов (и наоборот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ол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интерфейс, который предоставляет класс в данной ассоциа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автомат, описывающий допустимый порядок вызовов (2.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DFFB-8647-4193-815A-1D03EC8D2C9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реализации и использования интерфейсов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229600" cy="525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C74B-B316-44D1-A00F-0A1D1708384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тация «чупа-чупс» (2.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13304" t="1807" r="19941" b="55860"/>
          <a:stretch/>
        </p:blipFill>
        <p:spPr>
          <a:xfrm>
            <a:off x="395280" y="1089000"/>
            <a:ext cx="8317080" cy="46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348000" y="458136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едоставляемый и требуемый интерфей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22B0-A414-4940-A3F3-3B04C79E360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01592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(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ти = интерфей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– класс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typ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земпляры (значения) типа не обладают индивидуальностью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t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итивные типы (и типовые выражения) из целевого языка программир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а и строки есть всег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яемые типы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umeratio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51781-05CA-468F-BD08-E17D5B2538B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8312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: трехзначная логи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35200" y="1641600"/>
            <a:ext cx="7470720" cy="357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722C-8DAC-4C89-A0E2-E3F23432C4D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аблон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50564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блон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 с параметра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метром может быть вс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МЕТ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ти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ное связывание – зависимость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явное связывание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_шабло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гумент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BC5A-86FF-41C4-9698-7B823A4D9AE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: параметризованный класс (шаблон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1438200"/>
            <a:ext cx="8839080" cy="538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8713-A05D-4EAC-8550-877D9FDAF14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7. Внутренняя структура объект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жнейшее нововвед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ированный классификатор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d classifi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состоит из частей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порт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ort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оединителей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 м.б. структурированными классификаторам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екомпозици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– структурная составляющая классификато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имеет имя, тип и крат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т – индивидуальная точка взаимодействия экземпляра классификатора и внешней сре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единитель – «контекстная» ассоциация между портами и частями, действующая только внутри классификато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олько СТРУКТУРА, но и ПОВЕДЕНИЕ (кооперация частей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FF757-D026-4352-A8FB-AFC59C5002E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ИС ОК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162" r="37576" b="56517"/>
          <a:stretch/>
        </p:blipFill>
        <p:spPr>
          <a:xfrm>
            <a:off x="647640" y="1197000"/>
            <a:ext cx="7777080" cy="4680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56000" y="5624640"/>
            <a:ext cx="40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едоставляемый и требуемый интерфей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4000" y="360828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менованный 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4720" y="3500280"/>
            <a:ext cx="14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оеди- н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08000" y="33926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CB45-66AD-4FDA-AD2F-3D9ED720DC3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8. Диаграммы компонен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7280" y="83664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числение и взаимосвязи артефактов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фейс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исим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0611-7EDE-418F-98F2-78053450597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О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– инкапсулирует данные и операции для работы с ни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– описание однотипных объек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= экземпляр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клас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ледова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nheritance)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 структуризации описаний класс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морфиз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olymorphism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шение о способе идентификации операций (по сигнатуре, а не по имен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объект является непосредственным экземпляром одного класса и косвенным экземпляром всех суперклассов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E96A-DF99-434C-9682-959C22CFA0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1.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508040"/>
            <a:ext cx="822960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C032-F81F-413C-8F84-8E335BEF6B5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11850" t="12231" r="35845" b="67905"/>
          <a:stretch/>
        </p:blipFill>
        <p:spPr>
          <a:xfrm>
            <a:off x="212760" y="1479600"/>
            <a:ext cx="8680320" cy="2927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16000" y="3321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мпонент, предоставляющий интерфей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3321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мпонент, использующий интерфей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62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нтерфей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4428-F321-4464-9DCF-F22A3CF2A07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утренняя структура компонент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5069" r="31499" b="54567"/>
          <a:stretch/>
        </p:blipFill>
        <p:spPr>
          <a:xfrm>
            <a:off x="324000" y="1521000"/>
            <a:ext cx="8534160" cy="4464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440000" y="112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мпонент с внутренней структу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3681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35640" y="2276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Делегирующий соедин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4437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нутренний интерфей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D421-1C37-47C2-82C6-60A87F02B59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реотипы компонентов 1.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286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cutabl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4190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блиотек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L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(БД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йл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h, .cp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кумент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молчан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54F1-16B5-4E11-9294-052A953B7E6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ичные примен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литное приложение – диаграмма компонентов не нуж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конфигурацие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верси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унаследованны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 данны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истем динамической архите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DD606-D241-437A-AF4F-3892D0FABAF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ы размещ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5336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топологии развернутой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Уз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исим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80ED-DEAC-4C3A-82ED-9FF0BB50C04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1.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1089000"/>
            <a:ext cx="7772400" cy="47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4D66-E87F-478D-A092-9819B909FE9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тонкий клиент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562040"/>
            <a:ext cx="853416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C93B-A96F-4952-AD02-64A41E25A9C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тонкий клиент (2.0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474E-2CBF-4C56-BB72-B4515313580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сложной системы описывается на уровне дескриптор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классов моделируют структуру объектов и связей между ни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 объектов = экземпляр диаграммы клас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компонентов моделируют структуру компонентов (артефактов) и взаимосвязей между ни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размещения моделируют структуру вычислительных ресурсов и размещение компон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BD6A-F93D-47DF-8C17-3F2713DBA7C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: Какой? Чего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связей объектов во время выпол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социации на диаграмме класс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сложных объектов, состоящих из взаимодействующих час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внутренней структуры классификато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хранения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олнения ассоциац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программного к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бщ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артефактов в проект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ы компонен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компонентов в приложен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фейсы и классы на диаграмме компонен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используемых вычислительных ресур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ы размещ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550E-3B2C-4D8D-8BCF-5B25C8CA31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е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рь предметной области – основа для выбора класс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ывать структуру удобнее параллельно с описанием поведен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обязательно включать в модель все классы сраз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обязательно определять все свойства класса сраз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обязательно показывать на диаграмме все свойства клас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обязательно определять все отнош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 классами сраз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7EEE-DC93-41F5-8C45-C9925ED0D5C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2. Классификато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ассификато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ifie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– сущность, имеющая экземпля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ификатор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 = множество абстрактных операц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данных: примитивы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ign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ompon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е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n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использов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se case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ub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классификаторы – пакет, обобщ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я ассоциация имеет экземпля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50BD-7343-4ACE-A5AA-0055C9C324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лассификаторы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ML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657360"/>
            <a:ext cx="44146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la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фак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tifa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nterfa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итивный тип данн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data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чис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enume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ign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ompon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е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n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использов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se case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ующее лиц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c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oope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ro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19640" y="3321000"/>
            <a:ext cx="1017360" cy="63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6000" y="335772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64000" y="2313000"/>
            <a:ext cx="936720" cy="539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551640" y="108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7848720" y="1305000"/>
            <a:ext cx="269640" cy="269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248000" y="1808280"/>
            <a:ext cx="809640" cy="53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824360" y="836640"/>
            <a:ext cx="990720" cy="63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500720" y="4545000"/>
            <a:ext cx="539640" cy="890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5543640" y="468936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7308720" y="4221000"/>
            <a:ext cx="990720" cy="29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3780000" y="51264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6551640" y="5445000"/>
            <a:ext cx="1133280" cy="36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8101080" y="5661000"/>
            <a:ext cx="576360" cy="53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6877080" y="274464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278F-6581-41B0-A3B1-F72D36E323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09:46:45Z</dcterms:created>
  <dc:creator>Fedor A. Novikov</dc:creator>
  <dc:description/>
  <dc:language>en-US</dc:language>
  <cp:lastModifiedBy>Fedor Novikov</cp:lastModifiedBy>
  <dcterms:modified xsi:type="dcterms:W3CDTF">2006-03-19T22:54:43Z</dcterms:modified>
  <cp:revision>73</cp:revision>
  <dc:subject/>
  <dc:title>OO Analysis &amp; Design with UML (elementary)</dc:title>
</cp:coreProperties>
</file>