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4180-BBDE-4F67-A337-D1F5BD9AF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873000"/>
            <a:ext cx="914400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750840"/>
            <a:ext cx="914400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2C0CF-9EF6-46D0-AA78-9A137E2B0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873000"/>
            <a:ext cx="446220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873000"/>
            <a:ext cx="446220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750840"/>
            <a:ext cx="446220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750840"/>
            <a:ext cx="446220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1CB6E-1831-4F6E-B403-0DCDD19E9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873000"/>
            <a:ext cx="294408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873000"/>
            <a:ext cx="294408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873000"/>
            <a:ext cx="294408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750840"/>
            <a:ext cx="294408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750840"/>
            <a:ext cx="294408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750840"/>
            <a:ext cx="294408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D7D93-7549-402C-AE7F-C0123D45D6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873000"/>
            <a:ext cx="9144000" cy="55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C5AA3-6E85-4F42-8475-15CF022BD5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73000"/>
            <a:ext cx="9144000" cy="55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915D1-F5BF-4641-BAE7-CB0CD16170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873000"/>
            <a:ext cx="4462200" cy="55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873000"/>
            <a:ext cx="4462200" cy="55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109A6-A12A-46E6-9E35-6A33E6B1D1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DDAD9-B7EE-41F4-BD9A-1445EC672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0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A8917-380A-4FA1-A1F4-C1035D433F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873000"/>
            <a:ext cx="446220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873000"/>
            <a:ext cx="4462200" cy="55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750840"/>
            <a:ext cx="446220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17E3D-A1C7-4572-B5A3-FFF8A82BD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873000"/>
            <a:ext cx="4462200" cy="55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873000"/>
            <a:ext cx="446220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750840"/>
            <a:ext cx="446220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9AA46-ADF2-4371-BCB6-DCFC00EC2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873000"/>
            <a:ext cx="446220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873000"/>
            <a:ext cx="446220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750840"/>
            <a:ext cx="914400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4946A-7CF4-45E3-B46C-A17B3A63C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73000"/>
            <a:ext cx="9144000" cy="55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16720" y="6381360"/>
            <a:ext cx="262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817D-A7C0-44D3-8842-EE95B56DA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з 2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648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.А. Новик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6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Управление моделя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лиз и проектирование н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UM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иков Ф.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ширение пространства име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468936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идит классы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но не видит 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идит классы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но не видит 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идит 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но не видит классы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идит классы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но не видит 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33440" y="838080"/>
            <a:ext cx="5902560" cy="384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B9E15-74CB-4752-93D9-4040FF800B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отация импорт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6360" y="1015920"/>
            <a:ext cx="7927920" cy="496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AC243-1D32-4C54-8925-4F24CED5B7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дуцированные зависимост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873000"/>
            <a:ext cx="9144000" cy="527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F857F-636C-4DFE-9A28-BC416351AB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общение для пакет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822320"/>
            <a:ext cx="9144000" cy="321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3F675-44A1-4A2A-A95A-8ECD367A6B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дели, системы и подсистем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304640"/>
            <a:ext cx="91440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зическая 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ируемая часть реального мир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ание физической систем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одной физической системы м.б. несколько моделе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ь физической систем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25B7D-BF02-4AF5-92F7-ED1B1115A6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амодель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правления моделями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6248520" cy="559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641E-0AAF-47AF-8F07-413507BDA4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андартные стереотипы пакетов (1.х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6320" y="620640"/>
          <a:ext cx="9067680" cy="5697360"/>
        </p:xfrm>
        <a:graphic>
          <a:graphicData uri="http://schemas.openxmlformats.org/drawingml/2006/table">
            <a:tbl>
              <a:tblPr/>
              <a:tblGrid>
                <a:gridCol w="2579400"/>
                <a:gridCol w="6488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acad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кет, который содержит только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сылки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на элементы, определенные в других пакета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ramework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кет, содержащий образцы и шабло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amodel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дель, которая описывает другую модел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odelLibrary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кет, содержащий определения элементов моделирования, предназначенных для использования в других пакета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ofil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кет, содержащий определения элементов моделирования, предназначенных для моделирования в определенной предметной област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ub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кет, представляющий только открытые части другого паке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ystemModel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дель, содержащая несколько моделей одной физической систем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pLevel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кет, который является конем иерархии вложенности пакето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A95E9-8C74-4154-8121-83D478490D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ияние пакетов в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873000"/>
            <a:ext cx="9144000" cy="55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чень мощный механизм повторного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тация: зависимость со стереотипом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 базы к приращени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лементы базы сопоставляются с элементами приращен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именам и метакласса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ращение расширяет базовый пакет непротиворечивым образо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расширения свои для каждого метакласса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7ED82-7163-4CB5-A56D-22291D8AD8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 слияния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16680" t="13350" r="37414" b="51624"/>
          <a:stretch/>
        </p:blipFill>
        <p:spPr>
          <a:xfrm>
            <a:off x="1469880" y="1014480"/>
            <a:ext cx="6918480" cy="510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206F2-E262-452F-B0D3-A904C0DA06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.2. Трассировка и гиперссылк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28400" y="838080"/>
            <a:ext cx="8715240" cy="56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уществование диаграмм, представлений и моделей разного уровня абстракц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есистемное отношение, т.е. отношение между элементами модели, а не модель отношения между моделируемыми сущностя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слеживание версий, уровней детализации и т.д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висимость со стереотипом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c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B7BCE-7522-4C9F-9955-699BEDCEC8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лекц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42560" y="1268280"/>
            <a:ext cx="7419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едение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зор язы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структу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повед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 моделя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нденции развития язык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процесс разработ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60B36-8927-4EAD-B8EC-C5BF5A2A81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 трассировк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160640"/>
            <a:ext cx="9144000" cy="538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EE2B4-4296-4567-A0A4-C19A6F38CF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иперссылк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2560" y="1295280"/>
            <a:ext cx="900108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gether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всех версий!) можно установить гиперссылку на любой элемент или диаграмм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перссылку можно установить для любого элемента, в том числе вложенного элемен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перссылок может быть сколько угодн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перссылки – удобное средство навигации, поддержанное инструменто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BFE34-22EB-4414-9F98-6F68706CD0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.3. Образцы и каркас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6920" y="990360"/>
            <a:ext cx="85518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ец проектирования – типичное решение типичной проблемы в данном контекст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таксически образе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(pattern)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аметрическая кооперация классов (шаблон кооперации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ркас – совокупность логически связанных образц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таксически карка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(framework)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кет со стереотипом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work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33570-7BA5-40C5-950F-EC6C65EF96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 применения образца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server = Subscribe Publis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14320" y="1268280"/>
            <a:ext cx="7513560" cy="2160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8600" y="34290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71640" y="3321000"/>
            <a:ext cx="7543800" cy="320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D085-C3BD-445B-B167-FA9274435F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комендации по использованию образц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8560" y="1375920"/>
            <a:ext cx="849780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е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убликация обобщенного опыта профессионал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ец полезен и разуме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ец решает типичную, но узкую распространенную подзадач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ец лаконичен и тривиале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струменты содержат библиотеки образцов (от 10 до 10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вания нужно знать наизу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поративные образц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а реального репозитори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1A29A-B44B-4829-BF7B-539267C735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680" y="1143000"/>
            <a:ext cx="8191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ущности на одной диаграмм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а должна охватываться «одним взглядом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 моделями – для того, кто моделирует, а не для компьютер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проекте сосуществуют разные модели в разных представлениях на разных уровнях абстракц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цы проектирования полезно знать и применят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6C55B-EC70-49DE-B587-E8528720D77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. Управление моделям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7417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.1. Паке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.2. Трассировка и гиперссыл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.3. Образцы и каркас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7520E-7327-4F98-97E9-2319B55DDE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.1. Пакет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72640"/>
            <a:ext cx="9144000" cy="54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кет – группирующая сущност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ерархия паке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онимный корневой пакет по умолчани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кет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ладее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объявленными в нем элемента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ладение – отношение композиц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кет может владеть не только простыми элементами, но и пакетами, диаграммами и подсистема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5E702-74B6-4FD4-91C8-B14CE8B1E7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войства пакет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657360"/>
            <a:ext cx="8929800" cy="57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кет задает пространство имен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на однородных элементов в пакете уникальн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ные имена через :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имость элементов паке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каждого элемента +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висимости со стереотипом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or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 и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ступ по именам к открытым элементам, т.е. расширение пространства име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бщение для паке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бстрактный пак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04CED-0102-4A2F-ADBC-FDB7D41B5A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нципы структуриров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 структу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ичество сущностей на диаграмм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ирина ветвления дерева пакето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о вхождений элемента в диаграмм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ние структу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структуре прилож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фазам процесса разработ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представлениям модел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CE0B8-1200-4012-A385-03AB08A69A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240" y="-1440"/>
            <a:ext cx="914724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D38F-71DA-4F1F-BFDC-B261331458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ношения между пакетам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шения владения (вложенности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рево пакетов в инструмент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дуцированные отнош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статочно одной па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ереотипные зависим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ияние пакетов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ckage merg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2.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бще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бстрактные паке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E56C4-D188-4661-A677-8112FC62F8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ношение вложенност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3933360"/>
            <a:ext cx="914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идит классы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но не видит 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видит классы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но не видит 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не видит классы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идит 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но не видит классы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657360"/>
            <a:ext cx="8763120" cy="31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057E7-9EA3-40AC-AE24-2267526444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9T09:46:45Z</dcterms:created>
  <dc:creator>Fedor A. Novikov</dc:creator>
  <dc:description/>
  <dc:language>en-US</dc:language>
  <cp:lastModifiedBy>Fedor Novikov</cp:lastModifiedBy>
  <dcterms:modified xsi:type="dcterms:W3CDTF">2006-03-29T16:34:45Z</dcterms:modified>
  <cp:revision>42</cp:revision>
  <dc:subject/>
  <dc:title>OO Analysis &amp; Design with UML (elementary)</dc:title>
</cp:coreProperties>
</file>