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591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828440" y="3838320"/>
            <a:ext cx="6591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5960" y="16765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440" y="38383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05960" y="38383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212220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7200" y="1676520"/>
            <a:ext cx="212220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960" y="1676520"/>
            <a:ext cx="212220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828440" y="3838320"/>
            <a:ext cx="212220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57200" y="3838320"/>
            <a:ext cx="212220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5960" y="3838320"/>
            <a:ext cx="212220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828440" y="1676520"/>
            <a:ext cx="65912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59124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21624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05960" y="1676520"/>
            <a:ext cx="321624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64767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5960" y="1676520"/>
            <a:ext cx="321624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828440" y="38383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21624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5960" y="16765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05960" y="38383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5960" y="1676520"/>
            <a:ext cx="3216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440" y="3838320"/>
            <a:ext cx="6591240" cy="19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676520"/>
            <a:ext cx="659124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уцированные зависим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ширение пространства име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3440" y="838080"/>
            <a:ext cx="64771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9279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19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 для паке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2320"/>
            <a:ext cx="91440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и, системы и подсистем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ческ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уемая часть реального ми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физическ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одной физической системы м.б. несколько мод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физическ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я моделями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1265400"/>
            <a:ext cx="624816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ндартные стереотипы паке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320" y="762120"/>
          <a:ext cx="8839080" cy="6324480"/>
        </p:xfrm>
        <a:graphic>
          <a:graphicData uri="http://schemas.openxmlformats.org/drawingml/2006/table">
            <a:tbl>
              <a:tblPr/>
              <a:tblGrid>
                <a:gridCol w="2514600"/>
                <a:gridCol w="6324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acad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который содержит только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сылк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на элементы, определенные в других пакета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amework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содержащий образцы и шаблон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amod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ль, которая описывает другую модел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elLibrar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содержащий определения элементов моделирования, предназначенных для использования в других пакета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fil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содержащий определения элементов моделирования, предназначенных для моделирования в определенной предметной област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ub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представляющий только открытые части другого паке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ystemMod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ль, содержащая несколько моделей одной физической систем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pLev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который является конем иерархии вложенности пакето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3640" y="152280"/>
            <a:ext cx="7518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ассиров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400" y="838080"/>
            <a:ext cx="8715240" cy="56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уществование диаграмм, представлений и моделей разного уровня абстрак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системное отношение, т.е. отношение между элементами модели, а не модель отношения между моделируемыми сущност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леживание версий, уровней детализации и т.д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ь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469880"/>
            <a:ext cx="9144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4920" y="152280"/>
            <a:ext cx="744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перссыл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295280"/>
            <a:ext cx="8186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geth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 установить гиперссылку на любой элемент или диаграмм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ерссылку можно установить для любого элемента, в том числе вложенного элемен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ерссылок может быть сколько угодн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ерссылки – удобное средство навигации, поддержанное инструмен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9720" y="1676160"/>
            <a:ext cx="7419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цы и каркас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3880" y="990360"/>
            <a:ext cx="81248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ец - типичное решение типичной проблемы в данном контекс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 образе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(pattern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метрическая кооперация классов (шаблон кооперац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кас – совокупность логически связанных образц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 карка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(framework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кет со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785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применения образц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server = Subscribe Publis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14320" y="1268280"/>
            <a:ext cx="7513560" cy="2160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34290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90720" y="3476520"/>
            <a:ext cx="75438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316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омендации по использованию образц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8560" y="13759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убликация обобщенного опыта профессионал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полезен и разум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 решает типичную, но узкую распространенную подзадач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лаконичен и тривиал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содержат библиотеки образцов (от 10 до 1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я нужно знать наизу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поративные образц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 реального репозитор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3640" y="151920"/>
            <a:ext cx="75182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680" y="1143000"/>
            <a:ext cx="8191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ущности на одной диаграмм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должна охватываться «одним взглядом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 – для того, кто моделирует, а не для компьюте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оекте сосуществуют разные модели в разных представлениях на разных уровнях абстрак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цы проектирования полезно знать и применя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59124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ы и систе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ссиров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ссыл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цы и каркас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152280"/>
            <a:ext cx="7524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ке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8400" y="1196640"/>
            <a:ext cx="833436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– группирующая сущно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ерархия паке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онимный корневой пакет по умолч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де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ъявленными в нем элемент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ение – отношение компози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может владеть не только элементами, но и пакетами, диаграммами и подсистем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паке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6760" y="838080"/>
            <a:ext cx="8572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задает пространство имен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а однородных элементов в пакете уникаль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ые имена через :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мость элементов паке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каждого элемента +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и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ступ по именам к открытым элементам, т.е. расширение пространства име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для паке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ктный пак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нципы структур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ущностей на диаграм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ина ветвления дерева пакет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вхождений элемента в диаграмм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руктуре прилож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азам процесса разработ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едставлениям моде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240" y="-1440"/>
            <a:ext cx="91472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я между пакет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 владения (вложенности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о пакетов в инструмент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уцированные отнош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статочно одной па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реотипные зависим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ктные паке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е вложен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46479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е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440" y="1066680"/>
            <a:ext cx="87631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29T13:58:21Z</dcterms:modified>
  <cp:revision>40</cp:revision>
  <dc:subject/>
  <dc:title>OO Analysis &amp; Design with UML (elementary)</dc:title>
</cp:coreProperties>
</file>