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43.wmf" ContentType="image/x-wmf"/>
  <Override PartName="/ppt/media/image44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45.wmf" ContentType="image/x-wmf"/>
  <Override PartName="/ppt/media/image46.wmf" ContentType="image/x-wmf"/>
  <Override PartName="/ppt/media/image48.wmf" ContentType="image/x-wmf"/>
  <Override PartName="/ppt/media/image11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2AEB9-6E53-4272-BDD0-B3C7AAB107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26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0" y="3823200"/>
            <a:ext cx="9144000" cy="26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DA2E7-DFE9-495B-BDE6-88566149FA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4462200" cy="26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760" y="907560"/>
            <a:ext cx="4462200" cy="26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3823200"/>
            <a:ext cx="4462200" cy="26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5760" y="3823200"/>
            <a:ext cx="4462200" cy="26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B6561-D557-45DE-9B28-43955AFB31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2944080" cy="26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1680" y="907560"/>
            <a:ext cx="2944080" cy="26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83360" y="907560"/>
            <a:ext cx="2944080" cy="26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0" y="3823200"/>
            <a:ext cx="2944080" cy="26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1680" y="3823200"/>
            <a:ext cx="2944080" cy="26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83360" y="3823200"/>
            <a:ext cx="2944080" cy="26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FF180-1D0B-4958-B454-323B4513C9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0" y="907560"/>
            <a:ext cx="9144000" cy="55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FEABC-4455-4A26-8844-CDA581293F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5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C8D93-0925-4D97-852B-2C0923895A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4462200" cy="55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5760" y="907560"/>
            <a:ext cx="4462200" cy="55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E6CA5-222A-4E70-B6F1-355E3B1A9D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5A2E2-5AB3-4E16-930F-8B0365B673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6987E-06A1-4C6D-ABF7-AAD817F9F5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4462200" cy="26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760" y="907560"/>
            <a:ext cx="4462200" cy="55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0" y="3823200"/>
            <a:ext cx="4462200" cy="26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39C84-C120-4FCA-B950-4A3806F21E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4462200" cy="55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907560"/>
            <a:ext cx="4462200" cy="26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5760" y="3823200"/>
            <a:ext cx="4462200" cy="26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0C0CE-2D1B-4DE5-AF34-BDBC294B4B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4462200" cy="26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907560"/>
            <a:ext cx="4462200" cy="26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0" y="3823200"/>
            <a:ext cx="9144000" cy="26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068F1-2850-4908-BC59-54CB31EF05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907560"/>
            <a:ext cx="9144000" cy="55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0" y="6597360"/>
            <a:ext cx="60199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.А. Новиков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ML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 Обзор язы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597360"/>
            <a:ext cx="25909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9D9E2-980B-4823-B04A-5E38F82122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из 5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нализ и проектирование н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UM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овиков Ф.А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асть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2.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иаграммы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ущности и отношения – лексемы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ексемы можно комбинировать произвольным (допустимым) образом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иаграмма – изображение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части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графа модел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дель –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бъединени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диаграмм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ля удобства рекомендуется использовать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анонически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диаграмм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0BC02-6BE6-408E-A3A7-09E5E9CDC98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нонические диаграммы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ML 1.x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лассов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(class diagram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ъектов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(object diagram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пользовани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(use case diagram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следовательност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(sequence diagram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операци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(collaboration diagram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стояни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(state chart diagram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ятельност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(activity diagram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мпонентов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(component diagram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змещени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(deployment diagram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8EA06-284F-423D-B458-77E25577483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лассификация диаграмм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7640" y="1066680"/>
            <a:ext cx="87310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уктурны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static structure diagram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иаграмма класс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иаграмма объекто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ализаци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implementation diagram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иаграмма компоненто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иаграмма размещени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аграмма использовани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веденчески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behavioral diagram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иаграмма состояни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иаграмма действи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заимодействи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interaction diagram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иаграммы коопераци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иаграммы последовательност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B9CD7-F9F0-4550-8FE2-82DDE489F45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ерархия типов диаграмм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UML 1.x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-3240" y="1523880"/>
            <a:ext cx="9147240" cy="4784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A9347-AA83-4C9E-BC5D-884F517BCC7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нонические диаграммы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ML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6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иаграмма использования 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иаграмма классов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+ внутренняя структур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+ диаграмма пакето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иаграмма объекто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иаграммы компонентов и развертывания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+ предоставляемые и требуемые интерфейс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иаграмма состояни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+ точки входа/выхода составных состояний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иаграмма деятельност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+ контакты действий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+ област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иаграмма последовательност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+ составные шаги + обзорная диаграмма + синхронизации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иаграмма кооперации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Диаграмма коммуникаци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758EB-B33A-4E2B-A4D3-EF332E8D84F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иаграмма использования (1.х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600200" y="914400"/>
            <a:ext cx="5943600" cy="571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999EE-5317-40FC-9684-2E5DCE34EE7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иаграмма использования (2.0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1305000"/>
            <a:ext cx="9144000" cy="50101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87280" y="270828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Действующее лиц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4508640"/>
            <a:ext cx="23763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Обобщ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действующи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ли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80000" y="566748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Зависимости и обобщения вариантов использов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651640" y="152100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Граница систем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0F1D9-117B-4420-A6B9-C30A8ACFBED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85760" y="0"/>
            <a:ext cx="895824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иаграмма классов (1.х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1168560"/>
            <a:ext cx="9144000" cy="453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D4393-DD45-4A4C-9273-F73D7273A44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иаграмма объектов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295280" y="1679400"/>
            <a:ext cx="6553440" cy="349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E1D6B-61BE-42DB-8133-32EC432CF34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698400"/>
            <a:ext cx="9144000" cy="54612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иаграмма внутренней структуры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Structured Classifier)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в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UML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527280" y="4257720"/>
            <a:ext cx="18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Соединител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2816280"/>
            <a:ext cx="18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Предоставляемый интерфей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307280" y="3141720"/>
            <a:ext cx="18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Требуемый интерфей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77080" y="440064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Пор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340000" y="3429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Час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F6EE7-3AD5-4220-92A3-09445F989CF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лан лекци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99720" y="1015920"/>
            <a:ext cx="7419960" cy="53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ведение в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M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зор язык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делирование использова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делирование структур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делирование поведе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правление моделям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нденции развития язык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ML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 процесс разработки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1C97B-6E5D-4F2F-995A-7DCD0256769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иаграмма состояний (1.х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2438280"/>
            <a:ext cx="9344160" cy="2781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FA46F-B1F0-4956-9829-F9E2A0A3A27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rcRect l="16969" t="24012" r="14358" b="25182"/>
          <a:stretch/>
        </p:blipFill>
        <p:spPr>
          <a:xfrm>
            <a:off x="177840" y="447840"/>
            <a:ext cx="8966160" cy="58896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иаграмма состояний (2.0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08000" y="1808280"/>
            <a:ext cx="18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Начальное состоя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84720" y="1665360"/>
            <a:ext cx="22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Заключительное состоя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27280" y="5084640"/>
            <a:ext cx="18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Точка вхо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5229360"/>
            <a:ext cx="18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Точка выхо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00000" y="1305000"/>
            <a:ext cx="34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Прекращение выполн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384720" y="400536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Вложенная машина состоян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EAE7F-E7AD-43EB-8C26-8544602B0D9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иаграмма деятельности (1.х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217520" y="762120"/>
            <a:ext cx="6708960" cy="5813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810A7-7DD0-437F-BBC7-9D17DF826F6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иаграмма деятельности (2.0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rcRect l="21828" t="14342" r="13588" b="26077"/>
          <a:stretch/>
        </p:blipFill>
        <p:spPr>
          <a:xfrm>
            <a:off x="1079640" y="512640"/>
            <a:ext cx="7165800" cy="58676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584360" y="5373720"/>
            <a:ext cx="27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Конец потока данны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392720" y="5337000"/>
            <a:ext cx="33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Конец потока управл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977080" y="1449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Парамет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деятельн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692360" y="1449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Начало потока управл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72000" y="285264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Выходной контакт действ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832360" y="389736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Входной контакт действ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84360" y="3176640"/>
            <a:ext cx="37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Передаваемый объект данны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3BB58-5827-4AF5-A558-D4FAADB2CD2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иаграмма последовательност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(1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х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064720" cy="5613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01FFE-DE52-4ADF-916C-60A328BA660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иаграмма последовательности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2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0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13424" t="15060" r="38693" b="16439"/>
          <a:stretch/>
        </p:blipFill>
        <p:spPr>
          <a:xfrm>
            <a:off x="4356000" y="512640"/>
            <a:ext cx="4788000" cy="60832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58920" y="2205000"/>
            <a:ext cx="36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Ссылка на другую диаграмм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8360" y="657360"/>
            <a:ext cx="36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Рамка диаграммы с тегом и именем диаграмм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50920" y="317664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Составной шаг (альтернатива) с рамкой и тегом шаг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A8FEB-35C9-49F1-961D-85DB217C1E1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иаграмма кооперации (1.х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28600" y="1779480"/>
            <a:ext cx="8686800" cy="329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A8B47-9698-47C3-B78F-0092B3ED3BF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иаграмма коммуникации (2.0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47795" b="35201"/>
          <a:stretch/>
        </p:blipFill>
        <p:spPr>
          <a:xfrm>
            <a:off x="1363680" y="838080"/>
            <a:ext cx="6845400" cy="50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DD518-99C8-48A6-B139-16FDF552EF2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иаграмма компонентов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(1.x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57200" y="1508040"/>
            <a:ext cx="8229600" cy="3848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490D3-B9A1-4D39-8353-8FD7F62C687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иаграмма компонентов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(2.0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rcRect l="0" t="0" r="27592" b="64263"/>
          <a:stretch/>
        </p:blipFill>
        <p:spPr>
          <a:xfrm>
            <a:off x="395280" y="2313000"/>
            <a:ext cx="8467560" cy="246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3B283-6747-4CF7-94B3-1AD459F2945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бзор язык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1.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дель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ML (UML Model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лементы модели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ements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ущност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Entitie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ношени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Relation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2.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иаграмм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(Diagram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ставления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Views)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щие механизмы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General Mechanisms)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5.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фили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files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6.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войства модели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el Properties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8B2F3-D828-40AF-8667-2D4DF6F7EE1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иаграмма размещения (1.х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7772400" cy="478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452BD-93C5-4DE0-AE8C-E1CC65BE314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иаграмма размещения (2.0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6882" t="10350" r="51890" b="47883"/>
          <a:stretch/>
        </p:blipFill>
        <p:spPr>
          <a:xfrm>
            <a:off x="468360" y="873000"/>
            <a:ext cx="8172360" cy="4927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179B0-180C-43CE-98A2-25A1B21CF36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.3. Представления 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iews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94428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альные модели сложн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ложную модель невозможно обозреть с одной точки зрени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дставление = проекция (фильтрация) единого графа модел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 (… 8)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дставлени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дставление использования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 Case View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огическое представлени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Design View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дставление процессов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Process View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дставление компонентов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Component View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дставление размещения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ployment View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BCFC8-A1CA-4B60-BDD1-AAEF233EEFE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ять представлени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057400" y="2286000"/>
            <a:ext cx="2895480" cy="459720"/>
          </a:xfrm>
          <a:prstGeom prst="rect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ign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486400" y="3505320"/>
            <a:ext cx="289548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ployment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133720" y="3505320"/>
            <a:ext cx="2895480" cy="459720"/>
          </a:xfrm>
          <a:prstGeom prst="rect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10080" y="2286000"/>
            <a:ext cx="289584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nent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62520" y="2590920"/>
            <a:ext cx="2438280" cy="99036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038480" y="28195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Case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19320" y="990720"/>
            <a:ext cx="304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оварь предметной области, функциональност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990720"/>
            <a:ext cx="281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борка системы, управление конфигураци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434340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пология системы, распределение, установ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71600" y="426708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изводительность, масштабируемость, пропускная способ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470C1-1AAC-462B-A7E1-E3FB1B2E3C6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едставление использовани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752480"/>
            <a:ext cx="7467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исание поведения с точки зрения внешних агентов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руктурные аспекты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– диаграммы использова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веденческие аспекты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– диаграммы взаимодействия, состояний и деятельности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072F1-8FAB-4EDF-A8D9-54EE799A69B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Логическое представление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42640" y="1307880"/>
            <a:ext cx="7620120" cy="51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лассы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– словарь предметной област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руктурные аспекты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– диаграммы классов и объектов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веденческие аспекты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– диаграммы взаимодействия, состояний и действий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0DFC3-58F4-4D4D-810A-6D841EF63D7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едставление процессов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араллелизм и синхронизация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производительность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масштабируемость, пропускная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способност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руктурные аспекты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активные классы: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цессы и поток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веденческие аспекты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– диаграммы взаимодействия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стояний и действий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ADD8B-25DA-4D3D-B7B2-D0426431FB0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3818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едставление компонентов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95280" y="1676160"/>
            <a:ext cx="7467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мпоненты (файлы)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управление конфигурацией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руктурные аспекты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диаграммы компонентов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веденческие аспекты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– диаграммы взаимодействия, состояний и действий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A6893-BFD8-4DCE-8063-E7DF53AA099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1536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едставление размещени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42640" y="167616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опология аппаратных средств и размещение компонентов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руктурные аспекты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диаграммы размеще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веденческие аспекты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– диаграммы взаимодействия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состояний и действий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84FD3-BBCA-4EBC-A08A-CB9F56ACFEF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осемь представлени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0" y="907920"/>
          <a:ext cx="9080640" cy="6061320"/>
        </p:xfrm>
        <a:graphic>
          <a:graphicData uri="http://schemas.openxmlformats.org/drawingml/2006/table">
            <a:tbl>
              <a:tblPr/>
              <a:tblGrid>
                <a:gridCol w="2960640"/>
                <a:gridCol w="3071880"/>
                <a:gridCol w="3048120"/>
              </a:tblGrid>
              <a:tr h="61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ла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ставл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аграмм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уктур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тическ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с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ектир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утренняя струк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опер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ненто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ольз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ольз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81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намичес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ечных автома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тоя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заимодейст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ледова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муник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зичес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мещ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мещ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правления модель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правления модель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ке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D7CC9-16B9-4D84-BD2C-6E6C07A2E41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1.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одель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M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-360" y="980640"/>
            <a:ext cx="8915400" cy="54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раф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(V,E) =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пустое множество (вершины) + множество неупорядоченных пар вершин (ребра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рграф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упорядоченные ребра = дуги)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мультиграф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кратные ребра)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псевдограф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петли)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рграф = бинарное отношение на множеств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груженный граф: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 : V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, g: E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дель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M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груженный мульти- псевдо- гипер- оргра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ршины = сущности, ребра = отношени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6F44A-DC7F-4FD5-A9A7-2BEDC007CA7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ри представлени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3818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ставление использова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О делает систем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аграммы использовани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ставление структур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З ЧЕГО состоит систем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аграммы классов, компонентов и размещени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ставление поведе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 работает систем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аграммы состояний, деятельности и взаимодействия (последовательности / коммуникации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21DB2-AA1C-4245-800A-0BA5660B822F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теративный процесс моделировани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838080" y="1343160"/>
            <a:ext cx="7467840" cy="551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12D2C-C66C-4335-AC1F-A8C94EAC1CA0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.4. Общие механизмы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104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нутреннее представление = Спецификаци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specification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оротная сторона картинк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полнени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adornments)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Украшения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decorations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п. разделы, спец. значк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дразделения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on divisions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ласс –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бъект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нтерфейс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реализаци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ханизмы расширени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extension mechanism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ереотип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stereotype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менованные значени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tagged value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граничени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constraint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D3A8F-F093-4B8C-BB2C-A0CF53021633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8390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нутреннее представление и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M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3337" r="43715" b="71251"/>
          <a:stretch/>
        </p:blipFill>
        <p:spPr>
          <a:xfrm>
            <a:off x="693720" y="1763640"/>
            <a:ext cx="7118280" cy="2851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8C18F-AD51-48D3-ACA3-C6EB5DED847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8390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нутреннее представление и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M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755640" y="87300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B3C8E-0362-48EC-8250-660126F1E93B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ополнени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2170080"/>
            <a:ext cx="9144000" cy="2514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AA2FC-2BD5-46F1-AC64-6F4B21E41BE9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дразделени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5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сли в одном и том же контексте нужно различать множества (классы) и элементы (объекты), то имена объектов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одчеркиваютс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а множеств – н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сли в одном и том же контексте нужно различать абстрактные классификаторы (не могущие иметь непосредственных экземпляров) и конкретные классификаторы (могущие иметь непосредственные экземпляры), то имена абстрактных записываются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урсивом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а конкретных – прямым шрифтом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08CB5-4DD5-4235-B828-0E2B2F8F73C1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менованные значения и ограничени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463680" y="1720800"/>
            <a:ext cx="8146800" cy="18446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1692360" y="3284640"/>
            <a:ext cx="7191360" cy="33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2CA27-8A6A-49CA-8508-CCA8847832DB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тереотипы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455760" y="1523880"/>
            <a:ext cx="8232480" cy="4924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EE57C-3611-499C-901F-096D2F7A3373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.5. Профили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5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блемно ориентированные язык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main (problem) specific (oriented) languag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яжеловесное «расширение» – изменение метамодели (мета моделирование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+ Нет ограничени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теря совместимости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operability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егковесное «расширение» –  добавление стереотипов (профилирование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+ Полная совместимость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льзя изменить сам язы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филь – пакет стереотипов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BAC72-B848-481B-A113-11B2143627EB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сновные сущности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ML 1.x &amp;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13840" y="837720"/>
            <a:ext cx="8929800" cy="58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уктурны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ласс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class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Объект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, Интерфей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interface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понен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component)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Действующее лицо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actor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Вариант использовани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use case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Коопераци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collaboration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Узе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node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веденчески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стояни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stat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ятельност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activity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йствие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руппирующи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ке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Packag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ннотационны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чание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979DC-3660-4952-8F8E-655FD40D03B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.6. Общие свойства модели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авильность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correctnes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веряет инструмен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противоречивость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ll formed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веряем м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лнота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leteness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достижима и не нужн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емантические вариации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semantic variation point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атическая или динамическая классификация? Зарыто глубоко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A5AD0-4901-452C-BE8F-4B5991376471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ыводы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дель UML состоит из описания сущностей и отношений между ним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лементы модели группируются в диаграммы и представления для наилучшего описания моделируемой системы с различных точек зре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случае необходимости элементы UML могут быть расширены и переопределены средствами самого язык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1D125-7A58-4CED-9633-BF63C2201509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отация для структурных сущностей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UML 1.x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09480" y="1295280"/>
          <a:ext cx="8305560" cy="5160960"/>
        </p:xfrm>
        <a:graphic>
          <a:graphicData uri="http://schemas.openxmlformats.org/drawingml/2006/table">
            <a:tbl>
              <a:tblPr/>
              <a:tblGrid>
                <a:gridCol w="4838040"/>
                <a:gridCol w="3467520"/>
              </a:tblGrid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с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йствующее лиц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терфей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операц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риант использова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нен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зе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019920" y="1371600"/>
            <a:ext cx="1181160" cy="6159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603760" y="2720880"/>
            <a:ext cx="1254240" cy="6447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7543800" y="1905120"/>
            <a:ext cx="363600" cy="10731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010280" y="3733920"/>
            <a:ext cx="1305000" cy="503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6019920" y="4495680"/>
            <a:ext cx="771480" cy="4064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7315200" y="5105520"/>
            <a:ext cx="1017720" cy="503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5867280" y="5486400"/>
            <a:ext cx="835200" cy="835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5CBD2-AC70-49F9-B767-3FE2A41915E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отация для других сущностей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UML 1.x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792000" y="1676520"/>
          <a:ext cx="7894800" cy="4775040"/>
        </p:xfrm>
        <a:graphic>
          <a:graphicData uri="http://schemas.openxmlformats.org/drawingml/2006/table">
            <a:tbl>
              <a:tblPr/>
              <a:tblGrid>
                <a:gridCol w="4578480"/>
                <a:gridCol w="331632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тоя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я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вилка / слия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твление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/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един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к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ч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638680" y="1676520"/>
            <a:ext cx="1251000" cy="9205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975360" y="2495520"/>
            <a:ext cx="1406520" cy="701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715000" y="4876920"/>
            <a:ext cx="731880" cy="6872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543800" y="5762520"/>
            <a:ext cx="873000" cy="596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6095880" y="3657600"/>
            <a:ext cx="544680" cy="1047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7772400" y="4343400"/>
            <a:ext cx="274680" cy="274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A1101-1A02-49AE-A91D-71C060F5445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зменения нотации в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ML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57960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ямоугольник со значком для структурных сущностей вместо специальных фигу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оставляемые и требуемые интерфейс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мки диаграмм и рамки шагов на диаграммах последовательност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ложенность диаграмм в фигуры (структурированные классификаторы и составные состояния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рты на границах составных фигур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056360" y="800280"/>
            <a:ext cx="1476360" cy="900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508720" y="1881360"/>
            <a:ext cx="3635280" cy="909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056280" y="2151000"/>
            <a:ext cx="3087720" cy="4707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2050920" y="5373720"/>
            <a:ext cx="4238640" cy="120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4B338-F19A-46FA-BB4F-7B59E50A9AF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тношени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1142640"/>
            <a:ext cx="7543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висимост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(dependency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висимое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зависимое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ссоциаци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(association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грегировани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aggregatio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позици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compositio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общени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(generalization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томок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до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ализаци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(implementation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lementa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48320" y="4648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038480" y="1371600"/>
            <a:ext cx="2016360" cy="8380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7391520" y="2286000"/>
            <a:ext cx="955440" cy="6048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6781680" y="3124080"/>
            <a:ext cx="2111400" cy="10288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7467480" y="2824200"/>
            <a:ext cx="1187640" cy="6048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3803760" y="4116240"/>
            <a:ext cx="1987560" cy="11592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6"/>
          <a:stretch/>
        </p:blipFill>
        <p:spPr>
          <a:xfrm>
            <a:off x="4876920" y="5257800"/>
            <a:ext cx="2139840" cy="1247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F0BD9-9879-4A40-B6F9-66A35ED0124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9T09:46:45Z</dcterms:created>
  <dc:creator>Fedor A. Novikov</dc:creator>
  <dc:description/>
  <dc:language>en-US</dc:language>
  <cp:lastModifiedBy>Fedor Novikov</cp:lastModifiedBy>
  <dcterms:modified xsi:type="dcterms:W3CDTF">2006-03-31T10:28:39Z</dcterms:modified>
  <cp:revision>59</cp:revision>
  <dc:subject/>
  <dc:title>OO Analysis &amp; Design with UML (elementary)</dc:title>
</cp:coreProperties>
</file>