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B8C4-5BDB-4234-8CBD-660C41B00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9144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09960"/>
            <a:ext cx="9144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8A32-8E03-46EB-8B59-4ADCD0A95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9B7F-5DFB-40C5-8BE3-20C0859E2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08900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08900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0996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0996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0996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1B7C-9B83-42A4-B61B-987E9EEED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089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61AD-930F-4AC5-8391-6ACD8AEF5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3FBF-D4C1-44FA-9769-678A0E656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0B7C-1F48-4707-A857-179E43D73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3B32-135D-42C9-BA5C-4E3C2AE1A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32B5-CD40-4E3A-9DF7-A5FFA77C8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8381-FD34-4DEE-B2B0-4C85777DF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3C0F-B64F-482F-A75F-47D47188A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09960"/>
            <a:ext cx="9144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3E7A-657C-4C9F-8524-71886FBB8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89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89360"/>
            <a:ext cx="6516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0000" y="6524280"/>
            <a:ext cx="1763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D77-2537-4158-906C-4BA08F0E0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dornovikov@rambler.r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fedornovikov@rambler.com" TargetMode="Externa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хнологии моделирования и анализа в разработке программного обеспечени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едор Александрови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dornovikov@rambler.r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1. Что тако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3352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= Unified Modeling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гмат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vs.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фицированн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версальный? Единый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5742-4032-42DD-9EFD-6F93748ED8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51280" y="3860640"/>
            <a:ext cx="2160720" cy="14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язы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295280"/>
          <a:ext cx="8686440" cy="5181480"/>
        </p:xfrm>
        <a:graphic>
          <a:graphicData uri="http://schemas.openxmlformats.org/drawingml/2006/table">
            <a:tbl>
              <a:tblPr/>
              <a:tblGrid>
                <a:gridCol w="2895480"/>
                <a:gridCol w="2895120"/>
                <a:gridCol w="2895840"/>
              </a:tblGrid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орм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к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перан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181480" y="4038480"/>
            <a:ext cx="12956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FA3A-90A1-4CDC-8769-DA5399E93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язык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одел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91440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енный цикл прило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процесса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– главный артефакт фазы проектирования итеративного процесса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– составление и использование моде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B92C-8DC8-47A1-B752-B74EBB01C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895480"/>
            <a:ext cx="579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изненный цикл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5829120" cy="62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9D1E-6970-4B5B-B1D1-D4DAA2DA6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еративный процесс разработ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EA77-811E-425B-BAE1-FDCB32E7AF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нифицированны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зык модел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983960"/>
            <a:ext cx="88059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й контекс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путем объединения и унифик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ы и международное сообществ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е тенден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C699-26C1-452C-9E21-DF85BD1B78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3280"/>
            <a:ext cx="83818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роглиф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технолог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потоков да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F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«сущность-связь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ER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ология структурного анализа и проектирова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AD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A51E-5F9D-4F17-86DB-0AE66140BE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62120" y="2035080"/>
          <a:ext cx="7619760" cy="44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5080"/>
                    <a:ext cx="761976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334120" y="1371600"/>
            <a:ext cx="26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ML 1.4 10/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64000" y="1773000"/>
            <a:ext cx="360360" cy="53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657360"/>
            <a:ext cx="26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UML 1.5 11/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944640"/>
            <a:ext cx="36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ML 2.0 8.03-9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40360" y="1052640"/>
            <a:ext cx="432000" cy="39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1280" y="1305000"/>
            <a:ext cx="14414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1773360"/>
            <a:ext cx="38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урс 1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79640" y="1449000"/>
            <a:ext cx="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A232-FD95-4B52-AF6C-68F4BC89BB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6360" y="249408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2278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31050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55736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22766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8360" y="31050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19640" y="1592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314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3141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15573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69080" y="2314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314172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8360" y="15937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492280"/>
            <a:ext cx="3024360" cy="1224000"/>
          </a:xfrm>
          <a:custGeom>
            <a:avLst/>
            <a:gdLst/>
            <a:ahLst/>
            <a:rect l="l" t="t" r="r" b="b"/>
            <a:pathLst>
              <a:path w="1542" h="658">
                <a:moveTo>
                  <a:pt x="0" y="0"/>
                </a:moveTo>
                <a:cubicBezTo>
                  <a:pt x="336" y="70"/>
                  <a:pt x="673" y="140"/>
                  <a:pt x="930" y="250"/>
                </a:cubicBezTo>
                <a:cubicBezTo>
                  <a:pt x="1187" y="360"/>
                  <a:pt x="1432" y="582"/>
                  <a:pt x="1542" y="6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1592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ML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396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нструментальная поддерж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11280" y="4581360"/>
            <a:ext cx="5977080" cy="1619280"/>
          </a:xfrm>
          <a:custGeom>
            <a:avLst/>
            <a:gdLst/>
            <a:ahLst/>
            <a:rect l="l" t="t" r="r" b="b"/>
            <a:pathLst>
              <a:path w="3765" h="1020">
                <a:moveTo>
                  <a:pt x="0" y="1020"/>
                </a:moveTo>
                <a:cubicBezTo>
                  <a:pt x="355" y="780"/>
                  <a:pt x="711" y="540"/>
                  <a:pt x="1180" y="431"/>
                </a:cubicBezTo>
                <a:cubicBezTo>
                  <a:pt x="1649" y="322"/>
                  <a:pt x="2382" y="435"/>
                  <a:pt x="2813" y="363"/>
                </a:cubicBezTo>
                <a:cubicBezTo>
                  <a:pt x="3244" y="291"/>
                  <a:pt x="3595" y="64"/>
                  <a:pt x="3765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186520"/>
            <a:ext cx="3024000" cy="539640"/>
          </a:xfrm>
          <a:custGeom>
            <a:avLst/>
            <a:gdLst/>
            <a:ahLst/>
            <a:rect l="l" t="t" r="r" b="b"/>
            <a:pathLst>
              <a:path w="1905" h="340">
                <a:moveTo>
                  <a:pt x="0" y="0"/>
                </a:moveTo>
                <a:cubicBezTo>
                  <a:pt x="555" y="16"/>
                  <a:pt x="1111" y="33"/>
                  <a:pt x="1428" y="90"/>
                </a:cubicBezTo>
                <a:cubicBezTo>
                  <a:pt x="1745" y="147"/>
                  <a:pt x="1825" y="298"/>
                  <a:pt x="1905" y="3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584208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4041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4360" y="4653000"/>
            <a:ext cx="23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6058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16720" y="3645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72360" y="23115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23080" y="306864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728640"/>
            <a:ext cx="1476360" cy="10447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5337000"/>
            <a:ext cx="900000" cy="55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3280" y="5373720"/>
            <a:ext cx="900000" cy="55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4834080"/>
            <a:ext cx="900000" cy="55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63211-06B9-43FA-AC31-5F64E4B695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240" y="1608120"/>
            <a:ext cx="9147240" cy="364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м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коб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FAAF-C38C-411B-91D9-BF193B4A4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нсформация плана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27280" y="1015920"/>
            <a:ext cx="471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0" y="105264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моделирования в процессе разрабо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визуального моделирования и спецификаци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D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D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концепции унифицированного языка моделирова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данных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процесс разрабо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концепции модельно-центрированной разработ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56000" y="1449360"/>
            <a:ext cx="9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56000" y="5589720"/>
            <a:ext cx="1332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456000" y="5553000"/>
            <a:ext cx="1224000" cy="3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92360" y="4834080"/>
            <a:ext cx="1224000" cy="25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3280" y="4867200"/>
            <a:ext cx="1008000" cy="577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66920" y="2457360"/>
            <a:ext cx="1692360" cy="29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564000" y="2168280"/>
            <a:ext cx="1187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79640" y="2889000"/>
            <a:ext cx="1908360" cy="82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36640"/>
            <a:ext cx="118728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72000" y="4184280"/>
            <a:ext cx="1152360" cy="25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449360"/>
            <a:ext cx="1474920" cy="450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558B-6D50-44DB-844E-02B079D0E1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2. Назначе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80960"/>
            <a:ext cx="8458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=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Спецификац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но наглядн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Визуализ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бщен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Проектирова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ы (конструирование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Документир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артефа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718C-6F39-4B87-A59F-2EF75EE94F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льные специфик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53680"/>
            <a:ext cx="891540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ция = описание 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нимании заказчик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нимании разработчик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амом дел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ая формальная (математическая) спецификация возможна, но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м спецификации больше объема к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и дороже программис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лучшая спецификация программы – к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изация дороже автоматиз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изованная спецификация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D2A0-7BB7-4858-B337-A7B22D060C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999800"/>
            <a:ext cx="8153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хой текс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екст с картинкам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инки с текстом = комиксы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7235-F7E7-405F-8C86-E7DEAC0E8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ирование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5368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матический синтез программ алгоритмически неразрешим (как массовая проблем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 разрешимые подклас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ичная генерация кода возмож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ора на стереотипные компон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e engineering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???обратное проектирование) !инженерный анализ програм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недисциплинированных лентяе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A2E5-BA09-45AA-9B2B-6B97E934B0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890720"/>
            <a:ext cx="758196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лементы моделе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т содержать текстовые опис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все инструменты умеют собирать из н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мыслен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окуме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ик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з программистов не пишет текс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FA0F-DF2F-4E4E-B9FE-8258413F80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3. Способы использования я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233360"/>
            <a:ext cx="86598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исование картинок 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мен информацией 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фикация систем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ое использование архитектурных реше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ерация кода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ификация моделей 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3286-1EF6-4CDA-ADC6-23FF9F5FBA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ментальная поддерж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16720" y="1376280"/>
            <a:ext cx="226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966920" y="1628640"/>
            <a:ext cx="576360" cy="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08000" y="2241720"/>
            <a:ext cx="1008360" cy="718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24000" y="2924280"/>
            <a:ext cx="86364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9985-1538-457E-89A4-BDEA44FCE4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НЕ явля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890720"/>
            <a:ext cx="87361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ыком программ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генерация кода не возбраняе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цией инструмен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инструменты подразумеваются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ю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gether, Rose, Modeler, Visio, Argo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ю проце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модель необходи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име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ational Unified Proces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ed Software Development Pro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D7AF-A362-425D-8C61-38100C5DEB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4. Структура определения язы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9680" y="1219320"/>
            <a:ext cx="8643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ность 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ность: компромис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тыре уровня модел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 метамоде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С грамматик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моде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рут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антика = Диаграммы клас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bstract syntax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Ограничен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+ Тек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nglis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тация = Отображение семантики в картинки (а не наоборот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L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О язык первого порядка с равенством и ограниченными квантор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CAD8-5AC8-4BC3-ADF7-BD9DAFFF4C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MG UML Specification 1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1526760"/>
            <a:ext cx="66294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Summ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Semantic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Notation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Extens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CORB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XMI DT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5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2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страни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1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31D4-7055-45B7-A78E-54DF56B610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едор Александрови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dornovikov@rambler.r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MG UML Specification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16000" y="1089000"/>
            <a:ext cx="85471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UML 2.0 Superstructure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6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UML 2.0 Infrastructure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1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UML 2.0 Diagram Interchang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3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Exten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MOF Meta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CORB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XMI D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страни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6E3D-864B-4C17-A630-343339C56C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метамодел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5680" y="765000"/>
            <a:ext cx="8429400" cy="532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1369-806F-4558-9847-0E87CD02EA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 объяснения понят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7280" y="1088640"/>
            <a:ext cx="86407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– откуда это взялос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гматика – зачем это нуж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ка – на сквозном приме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 – все элементы по раз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модель – упрощенный абстрактный синтакси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– по принципу 8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% языка достаточно для 80% случае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BD00-2F4B-4C3D-8FE4-35E9EBF865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36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5. (1) Терминолог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900108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термин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русск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М. Вендров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Distill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лохо для нача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A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нкин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User Gui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едено по словар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В. Леоненков (Самоучитель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 и А. Максимовы (Справочник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дактор Ф.А. Нов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Солнышков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пел повлиять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20AD-6928-4949-8C38-F625E042A9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5. (2) Доступная и рекомендуемая литератур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36480"/>
            <a:ext cx="91440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Language Referen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Amigo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справочник (Питер, 200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ML 2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издание (Питер, 20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Distilled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tin Fowl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amp; Kendall Scot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ы (Символ, 200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ратком изложении (Мир, 19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User Gui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Amigo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льзовател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ДМК, 2000, Питер 20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учитель (Леоненков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БХВ, 2001, 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CE79-B75D-4CC2-9DE8-1A346632DD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5. (3) Нот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гуры – двумерные с внутренность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ии – одномерные с наруж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ки – двумерные с наруж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рис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o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но РИСУЕТ – не меша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e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ИСУЕТ – старае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иво РИСУЕТ – иногда слиш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o UM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еплохо РИСУЕТ, но устает и падает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ный стиль и вари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-белый без излишеств для печа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ый – элемент модели,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иний – мой комментар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AF06-39F8-4AD7-9A69-7247AF6B74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6000" y="914040"/>
            <a:ext cx="87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ще один формальный язык, который необходимо быстро освои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необходимым, но не является достаточным условием построения разумных моде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ет синтаксис, семантику и прагматику, которые нужно использовать с учетом особенностей фактического инструмен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D2EC-7DE9-4E57-B95E-D646FFD3DC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курса с упражнени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нденции развит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ющие лица и варианты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ы и отношения между ни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ы, блок-схемы и коопер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ый семина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F553-2E59-45A6-BAEB-1C999BD85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5760" y="0"/>
            <a:ext cx="89582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и и задачи кур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57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сное понимание основных иде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ние базовых конструкций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.х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обретение практических навыков моделирования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конкретным инструментом модел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знание тенденций развит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08D1-F72C-442F-87E4-4E777B0992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яемые результаты кур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о созданный артефакт – синтаксически правильные модели использования, структуры и поведения реального прило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ая презентация модели с использованием технических средств продолжительностью полчаса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AE58-352A-44B5-B0D3-FDFAB8407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1191960"/>
            <a:ext cx="7419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A6B2-8E4A-4735-8359-1B722F312D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160" y="0"/>
            <a:ext cx="90518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Введение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89036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Что тако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2. Назнач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3. Способы использован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4. Структура определен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5. Терминология, литература, но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26CE-DE18-46AC-8CC9-6ABBF0113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31T07:59:26Z</dcterms:modified>
  <cp:revision>54</cp:revision>
  <dc:subject/>
  <dc:title>OO Analysis &amp; Design with UML (elementary)</dc:title>
</cp:coreProperties>
</file>